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29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FD48-6554-4783-978B-36484896D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C5E2-F3F3-4A11-8F07-4EFABBAB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9DEF-B32F-473E-B7A8-1D6DE5DE6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429B-222C-4FD7-AF8B-9DD2E6CF1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435A-640A-4C92-A5F2-41B3F4E4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30BB-E302-4D4D-9447-93AAFD5D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441B-CCE7-49F1-854C-2168FC86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8B4E-1DF0-4553-A4B8-828CB9A4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381A-6332-4A50-A0EB-10A9F74A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56E2-41A9-4BDE-A21D-41199400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DA86-09A9-4475-A356-156FBC48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F345-8C6C-4229-B579-83308FC7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0D7D-DF75-45F8-B360-E8CE5626765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amy项目\模板\茶\1\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E:\amy项目\模板\茶\1\2.png"/>
          <p:cNvPicPr/>
          <p:nvPr/>
        </p:nvPicPr>
        <p:blipFill>
          <a:blip r:embed="rId3"/>
          <a:stretch/>
        </p:blipFill>
        <p:spPr>
          <a:xfrm>
            <a:off x="101520" y="4840200"/>
            <a:ext cx="897120" cy="874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2016&#23626;&#27605;&#19994;&#35770;&#25991;&#26684;&#24335;&#35201;&#27714;&#21450;&#21442;&#32771;&#33539;&#26412;\&#25991;&#29486;&#32508;&#36848;\&#25991;&#29486;&#32508;&#36848;&#33539;&#26412;.doc" TargetMode="External"/><Relationship Id="rId3" Type="http://schemas.openxmlformats.org/officeDocument/2006/relationships/hyperlink" Target="2016&#23626;&#27605;&#19994;&#35770;&#25991;&#26684;&#24335;&#35201;&#27714;&#21450;&#21442;&#32771;&#33539;&#26412;\&#25991;&#29486;&#32508;&#36848;\&#25991;&#29486;&#32508;&#36848;&#32479;&#19968;&#26684;&#24335;.doc" TargetMode="External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2016&#23626;&#27605;&#19994;&#35770;&#25991;&#26684;&#24335;&#35201;&#27714;&#21450;&#21442;&#32771;&#33539;&#26412;\&#24320;&#39064;&#25253;&#21578;\&#24320;&#39064;&#25253;&#21578;&#20070;&#20889;&#20316;&#33539;&#26412;.doc" TargetMode="External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2016&#23626;&#27605;&#19994;&#35770;&#25991;&#26684;&#24335;&#35201;&#27714;&#21450;&#21442;&#32771;&#33539;&#26412;\&#35770;&#25991;&#27491;&#25991;\&#27605;&#19994;&#35770;&#25991;&#27491;&#25991;&#33539;&#26412;.doc" TargetMode="External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2016&#23626;&#27605;&#19994;&#35770;&#25991;&#26684;&#24335;&#35201;&#27714;&#21450;&#21442;&#32771;&#33539;&#26412;\&#35770;&#25991;&#27491;&#25991;\&#27605;&#19994;&#35770;&#25991;&#27491;&#25991;&#33539;&#26412;.doc" TargetMode="External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2016&#23626;&#27605;&#19994;&#35770;&#25991;&#26684;&#24335;&#35201;&#27714;&#21450;&#21442;&#32771;&#33539;&#26412;\&#35770;&#25991;&#27491;&#25991;\&#27605;&#19994;&#35770;&#25991;&#27491;&#25991;&#33539;&#26412;.doc" TargetMode="Externa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2016&#23626;&#27605;&#19994;&#35770;&#25991;&#26684;&#24335;&#35201;&#27714;&#21450;&#21442;&#32771;&#33539;&#26412;\&#35770;&#25991;&#27491;&#25991;\&#27605;&#19994;&#35770;&#25991;&#27491;&#25991;&#33539;&#26412;.doc" TargetMode="External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2016&#23626;&#27605;&#19994;&#35770;&#25991;&#26684;&#24335;&#35201;&#27714;&#21450;&#21442;&#32771;&#33539;&#26412;\&#35770;&#25991;&#27491;&#25991;\&#27605;&#19994;&#35770;&#25991;&#27491;&#25991;&#33539;&#26412;.doc" TargetMode="Externa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hyperlink" Target="G:\2014&#23626;&#26412;&#31185;&#35770;&#25991;&#25351;&#23548;&#35762;&#24231;\2012&#23626;&#27605;&#19994;&#35770;&#25991;&#26684;&#24335;&#35268;&#33539;&#21450;&#33539;&#26412;\&#35770;&#25991;&#20840;&#25991;\10514_050302_200618140101_17&#34203;&#36745;--&#33539;&#25991;.doc" TargetMode="External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2015&#23626;&#27605;&#19994;&#35770;&#25991;&#26684;&#24335;&#35201;&#27714;&#21450;&#21442;&#32771;&#33539;&#26412;\&#35770;&#25991;&#27491;&#25991;\&#27605;&#19994;&#35770;&#25991;&#27491;&#25991;&#33539;&#26412;.doc" TargetMode="External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E:\amy项目\模板\茶\1\1.png"/>
          <p:cNvPicPr/>
          <p:nvPr/>
        </p:nvPicPr>
        <p:blipFill>
          <a:blip r:embed="rId1"/>
          <a:srcRect l="0" t="0" r="0" b="13921"/>
          <a:stretch/>
        </p:blipFill>
        <p:spPr>
          <a:xfrm>
            <a:off x="-303120" y="-539640"/>
            <a:ext cx="11885400" cy="742788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11" descr="9.png"/>
          <p:cNvPicPr/>
          <p:nvPr/>
        </p:nvPicPr>
        <p:blipFill>
          <a:blip r:embed="rId2"/>
          <a:stretch/>
        </p:blipFill>
        <p:spPr>
          <a:xfrm>
            <a:off x="6975360" y="-1096920"/>
            <a:ext cx="223920" cy="166680"/>
          </a:xfrm>
          <a:prstGeom prst="rect">
            <a:avLst/>
          </a:prstGeom>
          <a:ln w="0">
            <a:noFill/>
          </a:ln>
        </p:spPr>
      </p:pic>
      <p:pic>
        <p:nvPicPr>
          <p:cNvPr id="311" name="图片 12" descr="10.png"/>
          <p:cNvPicPr/>
          <p:nvPr/>
        </p:nvPicPr>
        <p:blipFill>
          <a:blip r:embed="rId3"/>
          <a:stretch/>
        </p:blipFill>
        <p:spPr>
          <a:xfrm>
            <a:off x="6189840" y="-681120"/>
            <a:ext cx="334800" cy="182520"/>
          </a:xfrm>
          <a:prstGeom prst="rect">
            <a:avLst/>
          </a:prstGeom>
          <a:ln w="0">
            <a:noFill/>
          </a:ln>
        </p:spPr>
      </p:pic>
      <p:pic>
        <p:nvPicPr>
          <p:cNvPr id="312" name="图片 13" descr="11.png"/>
          <p:cNvPicPr/>
          <p:nvPr/>
        </p:nvPicPr>
        <p:blipFill>
          <a:blip r:embed="rId4"/>
          <a:stretch/>
        </p:blipFill>
        <p:spPr>
          <a:xfrm>
            <a:off x="285840" y="-1069920"/>
            <a:ext cx="174600" cy="380880"/>
          </a:xfrm>
          <a:prstGeom prst="rect">
            <a:avLst/>
          </a:prstGeom>
          <a:ln w="0">
            <a:noFill/>
          </a:ln>
        </p:spPr>
      </p:pic>
      <p:pic>
        <p:nvPicPr>
          <p:cNvPr id="313" name="图片 14" descr="12.png"/>
          <p:cNvPicPr/>
          <p:nvPr/>
        </p:nvPicPr>
        <p:blipFill>
          <a:blip r:embed="rId5"/>
          <a:stretch/>
        </p:blipFill>
        <p:spPr>
          <a:xfrm>
            <a:off x="1069920" y="-838080"/>
            <a:ext cx="407880" cy="298440"/>
          </a:xfrm>
          <a:prstGeom prst="rect">
            <a:avLst/>
          </a:prstGeom>
          <a:ln w="0">
            <a:noFill/>
          </a:ln>
        </p:spPr>
      </p:pic>
      <p:pic>
        <p:nvPicPr>
          <p:cNvPr id="314" name="图片 15" descr="7.png"/>
          <p:cNvPicPr/>
          <p:nvPr/>
        </p:nvPicPr>
        <p:blipFill>
          <a:blip r:embed="rId6"/>
          <a:stretch/>
        </p:blipFill>
        <p:spPr>
          <a:xfrm>
            <a:off x="2984400" y="-860400"/>
            <a:ext cx="349200" cy="380880"/>
          </a:xfrm>
          <a:prstGeom prst="rect">
            <a:avLst/>
          </a:prstGeom>
          <a:ln w="0">
            <a:noFill/>
          </a:ln>
        </p:spPr>
      </p:pic>
      <p:pic>
        <p:nvPicPr>
          <p:cNvPr id="315" name="图片 16" descr="8.png"/>
          <p:cNvPicPr/>
          <p:nvPr/>
        </p:nvPicPr>
        <p:blipFill>
          <a:blip r:embed="rId7"/>
          <a:stretch/>
        </p:blipFill>
        <p:spPr>
          <a:xfrm>
            <a:off x="4572000" y="-712800"/>
            <a:ext cx="380880" cy="3906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6" descr="E:\amy项目\模板\茶\1\4.png"/>
          <p:cNvPicPr/>
          <p:nvPr/>
        </p:nvPicPr>
        <p:blipFill>
          <a:blip r:embed="rId8"/>
          <a:stretch/>
        </p:blipFill>
        <p:spPr>
          <a:xfrm>
            <a:off x="6672240" y="214200"/>
            <a:ext cx="2185920" cy="2130480"/>
          </a:xfrm>
          <a:prstGeom prst="rect">
            <a:avLst/>
          </a:prstGeom>
          <a:ln w="0">
            <a:noFill/>
          </a:ln>
        </p:spPr>
      </p:pic>
      <p:sp>
        <p:nvSpPr>
          <p:cNvPr id="317" name="TextBox 6"/>
          <p:cNvSpPr/>
          <p:nvPr/>
        </p:nvSpPr>
        <p:spPr>
          <a:xfrm>
            <a:off x="-154080" y="2228760"/>
            <a:ext cx="780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本科毕业论文（设计）写作规范与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             </a:t>
            </a:r>
            <a:r>
              <a:rPr b="1" lang="zh-CN" sz="3200" spc="-1" strike="noStrike">
                <a:solidFill>
                  <a:srgbClr val="002060"/>
                </a:solidFill>
                <a:latin typeface="宋体"/>
              </a:rPr>
              <a:t>－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以广播电视编导专业为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文本框 1"/>
          <p:cNvSpPr/>
          <p:nvPr/>
        </p:nvSpPr>
        <p:spPr>
          <a:xfrm>
            <a:off x="4364640" y="26668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文本框 1"/>
          <p:cNvSpPr/>
          <p:nvPr/>
        </p:nvSpPr>
        <p:spPr>
          <a:xfrm>
            <a:off x="3333600" y="4781520"/>
            <a:ext cx="485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新闻与传播学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path" presetID="0" repeatCount="indefinite">
                                  <p:stCondLst>
                                    <p:cond delay="1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1.11111E-006 -3.33333E-006 C 0.0184 0.005 0.02951 0.03083 0.04444 0.04667 C 0.05069 0.06167 0.0618 0.07167 0.06805 0.08667 C 0.07326 0.09917 0.07795 0.11111 0.08472 0.12222 C 0.08941 0.15222 0.09844 0.17917 0.10694 0.20667 C 0.10955 0.215 0.11059 0.22667 0.1125 0.23555 C 0.11302 0.23778 0.11389 0.24222 0.11389 0.24222 C 0.11649 0.27167 0.1158 0.30139 0.11805 0.33083 C 0.11875 0.35861 0.11788 0.39222 0.12222 0.42 C 0.1243 0.43333 0.12778 0.44694 0.13055 0.46 C 0.13385 0.47555 0.13663 0.49139 0.14028 0.50667 C 0.14166 0.5125 0.14132 0.51694 0.14305 0.52222 C 0.14705 0.535 0.14496 0.52222 0.14861 0.53778 C 0.15208 0.55278 0.15399 0.56861 0.15972 0.58222 C 0.175 0.61889 0.15798 0.5775 0.16944 0.59778 C 0.1717 0.60167 0.17986 0.61944 0.18333 0.62667 C 0.18837 0.63722 0.1967 0.64778 0.20278 0.65778 C 0.20868 0.66722 0.21302 0.68028 0.21805 0.69111 C 0.22153 0.69861 0.22639 0.70444 0.23055 0.71111 C 0.2335 0.71583 0.2342 0.72305 0.23611 0.72889 C 0.23802 0.735 0.24166 0.73944 0.24444 0.74444 C 0.25521 0.76361 0.26632 0.78167 0.27778 0.8 C 0.28368 0.80944 0.28472 0.81528 0.28889 0.82444 C 0.29531 0.83833 0.30208 0.85222 0.30972 0.86444 C 0.31267 0.87639 0.31666 0.88778 0.31944 0.9 C 0.32205 0.91139 0.32326 0.92167 0.32639 0.93333 C 0.32864 0.95167 0.33507 0.96639 0.33889 0.98444 C 0.34305 1.00472 0.34861 1.02417 0.35278 1.04444 C 0.35503 1.09472 0.3566 1.10555 0.35416 1.16889 C 0.35364 1.18139 0.35 1.19611 0.35 1.20889 E">
                                      <p:cBhvr>
                                        <p:cTn id="12" dur="15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mph" presetID="8" repeatCount="indefinite">
                                  <p:stCondLst>
                                    <p:cond delay="1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600000">
                                      <p:cBhvr>
                                        <p:cTn id="14" dur="1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path" presetID="0" repeatCount="indefinite">
                                  <p:stCondLst>
                                    <p:cond delay="23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05556E-006 -3.33333E-006 C -0.00104 0.04556 -0.00156 0.09861 -0.0125 0.14222 C -0.01441 0.16028 -0.0158 0.1825 -0.02222 0.19778 C -0.02518 0.22611 -0.02101 0.19806 -0.02778 0.22 C -0.0309 0.23 -0.03281 0.25639 -0.03472 0.26889 C -0.03577 0.29222 -0.03629 0.31194 -0.04306 0.33333 C -0.04497 0.33917 -0.04861 0.35111 -0.04861 0.35111 C -0.05 0.36472 -0.05243 0.3775 -0.05417 0.39111 C -0.05469 0.40889 -0.05417 0.42667 -0.05556 0.44444 C -0.0566 0.45889 -0.06094 0.47222 -0.0625 0.48667 C -0.06754 0.535 -0.0717 0.58361 -0.07917 0.63111 C -0.0809 0.65861 -0.08281 0.6825 -0.08611 0.70889 C -0.08768 0.7825 -0.09757 0.89194 -0.08472 0.95333 C -0.0842 0.98083 -0.08455 1.00833 -0.08334 1.03556 C -0.08316 1.03833 -0.08125 1.03972 -0.08056 1.04222 C -0.07934 1.04639 -0.07847 1.05111 -0.07778 1.05556 C -0.07587 1.06639 -0.07483 1.07944 -0.07084 1.08889 C -0.06788 1.09611 -0.06302 1.10222 -0.05972 1.10889 C -0.05226 1.12417 -0.04445 1.15194 -0.04445 1.17111 E">
                                      <p:cBhvr>
                                        <p:cTn id="16" dur="15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mph" presetID="8" repeatCount="indefinite">
                                  <p:stCondLst>
                                    <p:cond delay="23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-1499879">
                                      <p:cBhvr>
                                        <p:cTn id="18" dur="1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path" presetID="0" repeatCount="indefinite">
                                  <p:stCondLst>
                                    <p:cond delay="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1.11111E-006 4.33681E-019 C -0.00139 0.03555 -0.00451 0.05833 -0.00972 0.09111 C -0.00938 0.12444 -0.01667 0.22583 0.00139 0.26861 C 0.00451 0.28833 0.00955 0.30639 0.01528 0.32417 C 0.01979 0.33889 0.0243 0.35278 0.02917 0.36639 C 0.03038 0.37028 0.03055 0.37417 0.03194 0.37778 C 0.03299 0.38 0.03489 0.38028 0.03611 0.38222 C 0.04271 0.39278 0.05052 0.41333 0.05694 0.42639 C 0.06649 0.44639 0.07639 0.46444 0.0875 0.48222 C 0.0908 0.4875 0.0934 0.49361 0.09722 0.49778 C 0.11319 0.51444 0.12743 0.53861 0.14444 0.55305 C 0.14462 0.55305 0.15781 0.56194 0.15972 0.56417 C 0.16771 0.57417 0.17483 0.58694 0.18333 0.59555 C 0.19132 0.60361 0.20017 0.61028 0.20833 0.61778 C 0.21441 0.62305 0.22014 0.63028 0.22639 0.63555 C 0.23194 0.64028 0.23871 0.64194 0.24305 0.64861 C 0.25712 0.67139 0.27569 0.68444 0.29444 0.69333 C 0.31007 0.71 0.29496 0.69583 0.3125 0.70639 C 0.32187 0.7125 0.33003 0.72278 0.33889 0.72889 C 0.35104 0.73694 0.3691 0.74333 0.38194 0.74861 C 0.39271 0.75305 0.40677 0.765 0.41667 0.77111 C 0.42899 0.77861 0.4441 0.77805 0.45694 0.78 C 0.50312 0.79444 0.55156 0.79305 0.59861 0.79305 E">
                                      <p:cBhvr>
                                        <p:cTn id="20" dur="15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mph" presetID="8" repeatCount="indefinite">
                                  <p:stCondLst>
                                    <p:cond delay="21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900000">
                                      <p:cBhvr>
                                        <p:cTn id="22" dur="1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path" presetID="0" repeatCount="indefinite">
                                  <p:stCondLst>
                                    <p:cond delay="12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.55556E-007 1.11111E-006 C 0.00191 0.00639 0.00226 0.01361 0.00417 0.02 C 0.00608 0.02639 0.0125 0.03806 0.01528 0.04445 C 0.02848 0.07639 0.04306 0.10834 0.05834 0.13778 C 0.07344 0.16723 0.09202 0.19223 0.10695 0.22223 C 0.12518 0.25861 0.14237 0.29695 0.15834 0.33556 C 0.16112 0.35028 0.16459 0.365 0.16667 0.38 C 0.17049 0.40861 0.16598 0.38584 0.16945 0.40195 C 0.17119 0.42528 0.17309 0.44889 0.17778 0.47111 C 0.18039 0.50528 0.18542 0.53556 0.19167 0.56889 C 0.19445 0.61667 0.19167 0.60889 0.20278 0.64445 C 0.20573 0.6675 0.20816 0.69028 0.21112 0.71306 C 0.21285 0.74611 0.22032 0.77445 0.22778 0.80417 C 0.23021 0.82695 0.2316 0.85056 0.23473 0.87334 C 0.23612 0.88361 0.24011 0.89195 0.24167 0.90223 C 0.24271 0.90889 0.24358 0.91556 0.24445 0.92223 C 0.24584 0.9325 0.24862 0.95306 0.24862 0.95306 C 0.24966 0.97084 0.2507 0.98973 0.25417 1.00667 C 0.25678 1.03611 0.2599 1.06584 0.2625 1.09556 C 0.26563 1.13028 0.26546 1.16584 0.27084 1.2 C 0.27309 1.23306 0.27639 1.26223 0.27639 1.29556 E">
                                      <p:cBhvr>
                                        <p:cTn id="24" dur="15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path" presetID="0" repeatCount="indefinite">
                                  <p:stCondLst>
                                    <p:cond delay="14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6.94444E-006 1.11111E-006 C -0.00711 0.01694 -0.01597 0.0325 -0.0236 0.04889 C -0.0269 0.05583 -0.02864 0.06417 -0.03194 0.07111 C -0.03819 0.085 -0.04496 0.09778 -0.05138 0.11139 C -0.06197 0.13305 -0.07378 0.15333 -0.08194 0.17778 C -0.0894 0.20028 -0.09895 0.21972 -0.10833 0.24 C -0.11388 0.25194 -0.12499 0.27555 -0.12499 0.27555 C -0.12847 0.29194 -0.13819 0.30361 -0.14166 0.32 C -0.14652 0.34333 -0.15294 0.36583 -0.1611 0.38667 C -0.16388 0.40944 -0.16006 0.38583 -0.16944 0.41555 C -0.17239 0.42472 -0.17413 0.43472 -0.17638 0.44444 C -0.18176 0.46805 -0.18541 0.49194 -0.19027 0.51555 C -0.19235 0.545 -0.19826 0.5725 -0.20555 0.6 C -0.20781 0.62611 -0.21163 0.65167 -0.21388 0.67778 C -0.21614 0.70389 -0.21371 0.69 -0.21666 0.70444 C -0.2184 0.72333 -0.21978 0.74417 -0.2236 0.76222 C -0.22777 0.80889 -0.23315 0.85639 -0.24027 0.90222 C -0.24322 0.94444 -0.24044 0.92944 -0.24444 0.94889 C -0.24426 0.96833 -0.24982 1.10083 -0.24027 1.16222 C -0.23975 1.1725 -0.23749 1.18861 -0.23749 1.2 E">
                                      <p:cBhvr>
                                        <p:cTn id="26" dur="15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path" presetID="0" repeatCount="indefinite">
                                  <p:stCondLst>
                                    <p:cond delay="17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6.11111E-006 2.22222E-006 C -0.00956 0.00389 -0.01268 0.00583 -0.02084 0.01333 C -0.0257 0.01778 -0.02796 0.02389 -0.03334 0.02667 C -0.04445 0.04444 -0.05799 0.05611 -0.06945 0.07333 C -0.08976 0.10389 -0.1066 0.14139 -0.12917 0.16667 C -0.1323 0.18194 -0.12779 0.16417 -0.1389 0.18444 C -0.13994 0.18611 -0.13942 0.18917 -0.14029 0.19111 C -0.14879 0.21056 -0.16147 0.2325 -0.16945 0.25333 C -0.18959 0.30556 -0.19688 0.36694 -0.21529 0.42 C -0.21806 0.44806 -0.21858 0.475 -0.22362 0.50194 C -0.22362 0.50806 -0.22813 0.61417 -0.21945 0.65556 C -0.21511 0.70333 -0.20591 0.74667 -0.19445 0.79111 C -0.18299 0.83528 -0.1724 0.88333 -0.15417 0.92222 C -0.14428 0.94361 -0.13004 0.96028 -0.12084 0.98222 C -0.10713 1.015 -0.09688 1.06167 -0.07084 1.07556 C -0.06494 1.08722 -0.05921 1.09833 -0.0514 1.10667 C -0.04723 1.1175 -0.04289 1.12611 -0.03612 1.13333 C -0.02692 1.15778 -0.01546 1.18417 -0.00279 1.20444 C -0.00105 1.21278 -0.00279 1.21 0.00138 1.21333 E">
                                      <p:cBhvr>
                                        <p:cTn id="28" dur="15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mph" presetID="6">
                                  <p:stCondLst>
                                    <p:cond delay="330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30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Group 2"/>
          <p:cNvGrpSpPr/>
          <p:nvPr/>
        </p:nvGrpSpPr>
        <p:grpSpPr>
          <a:xfrm>
            <a:off x="2252520" y="2619360"/>
            <a:ext cx="4638960" cy="476280"/>
            <a:chOff x="2252520" y="2619360"/>
            <a:chExt cx="4638960" cy="476280"/>
          </a:xfrm>
        </p:grpSpPr>
        <p:grpSp>
          <p:nvGrpSpPr>
            <p:cNvPr id="339" name="Group 3"/>
            <p:cNvGrpSpPr/>
            <p:nvPr/>
          </p:nvGrpSpPr>
          <p:grpSpPr>
            <a:xfrm>
              <a:off x="2252520" y="2619360"/>
              <a:ext cx="4638960" cy="476280"/>
              <a:chOff x="2252520" y="2619360"/>
              <a:chExt cx="4638960" cy="476280"/>
            </a:xfrm>
          </p:grpSpPr>
          <p:pic>
            <p:nvPicPr>
              <p:cNvPr id="340" name="AutoShap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2252520" y="2619360"/>
                <a:ext cx="4638960" cy="47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1" name="Text Box 5"/>
              <p:cNvSpPr/>
              <p:nvPr/>
            </p:nvSpPr>
            <p:spPr>
              <a:xfrm>
                <a:off x="2337480" y="2669400"/>
                <a:ext cx="44748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Group 6"/>
            <p:cNvGrpSpPr/>
            <p:nvPr/>
          </p:nvGrpSpPr>
          <p:grpSpPr>
            <a:xfrm>
              <a:off x="2252520" y="2643120"/>
              <a:ext cx="4638960" cy="395280"/>
              <a:chOff x="2252520" y="2643120"/>
              <a:chExt cx="4638960" cy="395280"/>
            </a:xfrm>
          </p:grpSpPr>
          <p:pic>
            <p:nvPicPr>
              <p:cNvPr id="343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252520" y="2643120"/>
                <a:ext cx="4638960" cy="3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Text Box 8"/>
              <p:cNvSpPr/>
              <p:nvPr/>
            </p:nvSpPr>
            <p:spPr>
              <a:xfrm>
                <a:off x="2330640" y="2719440"/>
                <a:ext cx="4488120" cy="23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（一）毕业论文的选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4"/>
          <p:cNvSpPr/>
          <p:nvPr/>
        </p:nvSpPr>
        <p:spPr>
          <a:xfrm>
            <a:off x="3919680" y="8424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是一项“基础工程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8"/>
          <p:cNvSpPr/>
          <p:nvPr/>
        </p:nvSpPr>
        <p:spPr>
          <a:xfrm>
            <a:off x="449280" y="1274760"/>
            <a:ext cx="4035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选题：解决“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  <a:ea typeface="华文新魏"/>
              </a:rPr>
              <a:t>写什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”，关系到毕业论文的成败。选题的过程，就是明确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  <a:ea typeface="华文新魏"/>
              </a:rPr>
              <a:t>研究方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  <a:ea typeface="华文新魏"/>
              </a:rPr>
              <a:t>研究内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  <a:ea typeface="华文新魏"/>
              </a:rPr>
              <a:t>研究目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过程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10"/>
          <p:cNvSpPr/>
          <p:nvPr/>
        </p:nvSpPr>
        <p:spPr>
          <a:xfrm>
            <a:off x="5543640" y="1187280"/>
            <a:ext cx="2976480" cy="36828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选“</a:t>
            </a: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宋体"/>
              </a:rPr>
              <a:t>标题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选“</a:t>
            </a: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宋体"/>
              </a:rPr>
              <a:t>问题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11"/>
          <p:cNvSpPr/>
          <p:nvPr/>
        </p:nvSpPr>
        <p:spPr>
          <a:xfrm>
            <a:off x="5514840" y="1741320"/>
            <a:ext cx="3011760" cy="10083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选题表面上是选择论文写作的标题，实际上是找到值得关注和研究的学术问题。应该从“问题”出发，然后在掌握一定材料的基础上形成“标题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矩形 1"/>
          <p:cNvSpPr/>
          <p:nvPr/>
        </p:nvSpPr>
        <p:spPr>
          <a:xfrm>
            <a:off x="878040" y="1854360"/>
            <a:ext cx="3076560" cy="22885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旧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湖北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拒绝平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江苏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世界需要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山东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切都会过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上海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总有一种期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四川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情有独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重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回到原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广东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时间在流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安徽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2"/>
          <p:cNvSpPr/>
          <p:nvPr/>
        </p:nvSpPr>
        <p:spPr>
          <a:xfrm>
            <a:off x="4216320" y="1469880"/>
            <a:ext cx="4572000" cy="22885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论虚拟人群的叛逆性行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网络群体性事件研究的进路、议题与视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西藏对外传播的艰巨性和有效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全球化背景下中国电影的文化外交意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美国情景喜剧中的“家庭元素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播、说、聊：电视新闻三种语言表达样态分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论传媒环境议题建构下的中国公共参与运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新媒体时代社会理性精神的重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3"/>
          <p:cNvSpPr/>
          <p:nvPr/>
        </p:nvSpPr>
        <p:spPr>
          <a:xfrm>
            <a:off x="754200" y="7398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全国部分高考作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4"/>
          <p:cNvSpPr/>
          <p:nvPr/>
        </p:nvSpPr>
        <p:spPr>
          <a:xfrm>
            <a:off x="4354560" y="754200"/>
            <a:ext cx="39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当代传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期论文题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5"/>
          <p:cNvSpPr/>
          <p:nvPr/>
        </p:nvSpPr>
        <p:spPr>
          <a:xfrm>
            <a:off x="6317640" y="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的关键：问题意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Box 3"/>
          <p:cNvSpPr/>
          <p:nvPr/>
        </p:nvSpPr>
        <p:spPr>
          <a:xfrm>
            <a:off x="4299120" y="190440"/>
            <a:ext cx="484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湖北省优秀学士学位论文选题示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155520" y="623880"/>
          <a:ext cx="8836200" cy="4989600"/>
        </p:xfrm>
        <a:graphic>
          <a:graphicData uri="http://schemas.openxmlformats.org/drawingml/2006/table">
            <a:tbl>
              <a:tblPr/>
              <a:tblGrid>
                <a:gridCol w="5249880"/>
                <a:gridCol w="1176480"/>
                <a:gridCol w="1234800"/>
                <a:gridCol w="117504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论文选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论文作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指导教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时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52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《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ld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住好时光”婚纱电影工作室的创业设计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余兰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童保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6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《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浅析二十世纪六十年代后中美电影的反智现象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柳立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黄贤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《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中国元素 世界表达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—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以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&lt;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中国好声音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&gt;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为例谈综艺娱乐节目模式的“本土化”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周婕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张新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《大数据时代下新闻报道的变革、困境与对策研究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刘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陈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《不落幕的青春风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—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浅析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&lt;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那些年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&gt;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等影片的风靡原因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施旎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沈嘉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《日报头条新闻的议题构建与舆论引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—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基于对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&lt;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人民日报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&gt;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与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&lt;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湖北日报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&gt;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头条新闻的对比分析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张璟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贺小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《“娱乐式围观”行为负面效果研究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胡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李育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矩形 1"/>
          <p:cNvSpPr/>
          <p:nvPr/>
        </p:nvSpPr>
        <p:spPr>
          <a:xfrm>
            <a:off x="7011720" y="1760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的基本原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"/>
          <p:cNvSpPr/>
          <p:nvPr/>
        </p:nvSpPr>
        <p:spPr>
          <a:xfrm>
            <a:off x="595440" y="1696680"/>
            <a:ext cx="4092480" cy="2837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黑体"/>
              </a:rPr>
              <a:t>1.</a:t>
            </a:r>
            <a:r>
              <a:rPr b="1" lang="zh-CN" sz="2400" spc="-1" strike="noStrike">
                <a:solidFill>
                  <a:srgbClr val="993300"/>
                </a:solidFill>
                <a:latin typeface="黑体"/>
                <a:ea typeface="宋体"/>
              </a:rPr>
              <a:t>选题应体现专业特点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黑体"/>
              </a:rPr>
              <a:t>2.</a:t>
            </a:r>
            <a:r>
              <a:rPr b="1" lang="zh-CN" sz="2400" spc="-1" strike="noStrike">
                <a:solidFill>
                  <a:srgbClr val="993300"/>
                </a:solidFill>
                <a:latin typeface="黑体"/>
                <a:ea typeface="宋体"/>
              </a:rPr>
              <a:t>选题应结合自身特长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黑体"/>
              </a:rPr>
              <a:t>3.</a:t>
            </a:r>
            <a:r>
              <a:rPr b="1" lang="zh-CN" sz="2400" spc="-1" strike="noStrike">
                <a:solidFill>
                  <a:srgbClr val="993300"/>
                </a:solidFill>
                <a:latin typeface="黑体"/>
                <a:ea typeface="宋体"/>
              </a:rPr>
              <a:t>选题应具有现实意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黑体"/>
              </a:rPr>
              <a:t>4.</a:t>
            </a:r>
            <a:r>
              <a:rPr b="1" lang="zh-CN" sz="2400" spc="-1" strike="noStrike">
                <a:solidFill>
                  <a:srgbClr val="993300"/>
                </a:solidFill>
                <a:latin typeface="黑体"/>
                <a:ea typeface="宋体"/>
              </a:rPr>
              <a:t>选题应考虑写作难度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黑体"/>
              </a:rPr>
              <a:t>5.</a:t>
            </a:r>
            <a:r>
              <a:rPr b="1" lang="zh-CN" sz="2400" spc="-1" strike="noStrike">
                <a:solidFill>
                  <a:srgbClr val="993300"/>
                </a:solidFill>
                <a:latin typeface="黑体"/>
                <a:ea typeface="宋体"/>
              </a:rPr>
              <a:t>选题应利于搜集材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4"/>
          <p:cNvSpPr/>
          <p:nvPr/>
        </p:nvSpPr>
        <p:spPr>
          <a:xfrm>
            <a:off x="5021280" y="1677960"/>
            <a:ext cx="3817800" cy="173988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选取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  <a:ea typeface="华文新魏"/>
              </a:rPr>
              <a:t>地方性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  <a:ea typeface="华文新魏"/>
              </a:rPr>
              <a:t>民族性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  <a:ea typeface="华文新魏"/>
              </a:rPr>
              <a:t>社会生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的实际问题进行研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例：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影视传播与黄冈旅游文化形象的建构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矩形 2"/>
          <p:cNvSpPr/>
          <p:nvPr/>
        </p:nvSpPr>
        <p:spPr>
          <a:xfrm>
            <a:off x="4619880" y="0"/>
            <a:ext cx="24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如何做到“大小适中”、“难易适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3"/>
          <p:cNvSpPr/>
          <p:nvPr/>
        </p:nvSpPr>
        <p:spPr>
          <a:xfrm>
            <a:off x="1320840" y="1247760"/>
            <a:ext cx="4021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其一，切忌“大而无当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论冯小刚电影风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》——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冯小刚贺岁片中“民族元素”的运用及其表意效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其二，切忌“空而无物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意见领袖的功能研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》——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网络社区中意见领袖的存在形态与功能定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其三，切忌“概念模糊”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公众（社会学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众（传播学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群众（政治学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6"/>
          <p:cNvSpPr/>
          <p:nvPr/>
        </p:nvSpPr>
        <p:spPr>
          <a:xfrm>
            <a:off x="5937120" y="1038240"/>
            <a:ext cx="2930760" cy="155700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时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上的明确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新世纪、信息时代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空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上的明确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鄂东地区、中小城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宋体"/>
              </a:rPr>
              <a:t>对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上的明确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网络广告、新生代导演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可加上副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矩形 2"/>
          <p:cNvSpPr/>
          <p:nvPr/>
        </p:nvSpPr>
        <p:spPr>
          <a:xfrm>
            <a:off x="7244280" y="190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确定选题的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4"/>
          <p:cNvSpPr/>
          <p:nvPr/>
        </p:nvSpPr>
        <p:spPr>
          <a:xfrm>
            <a:off x="5443560" y="1684440"/>
            <a:ext cx="31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提示：</a:t>
            </a:r>
            <a:r>
              <a:rPr b="0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在查阅相关资料的基础上，要将自己的思路和想法及时与指导老师进行交流，以使选题更具合理性、科学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文本框 1"/>
          <p:cNvSpPr/>
          <p:nvPr/>
        </p:nvSpPr>
        <p:spPr>
          <a:xfrm>
            <a:off x="689040" y="1684440"/>
            <a:ext cx="46036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2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选择基本研究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上网查找相关资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20000"/>
              </a:lnSpc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确定具体研究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Group 2"/>
          <p:cNvGrpSpPr/>
          <p:nvPr/>
        </p:nvGrpSpPr>
        <p:grpSpPr>
          <a:xfrm>
            <a:off x="2252520" y="2619360"/>
            <a:ext cx="4638960" cy="476280"/>
            <a:chOff x="2252520" y="2619360"/>
            <a:chExt cx="4638960" cy="476280"/>
          </a:xfrm>
        </p:grpSpPr>
        <p:grpSp>
          <p:nvGrpSpPr>
            <p:cNvPr id="366" name="Group 3"/>
            <p:cNvGrpSpPr/>
            <p:nvPr/>
          </p:nvGrpSpPr>
          <p:grpSpPr>
            <a:xfrm>
              <a:off x="2252520" y="2619360"/>
              <a:ext cx="4638960" cy="476280"/>
              <a:chOff x="2252520" y="2619360"/>
              <a:chExt cx="4638960" cy="476280"/>
            </a:xfrm>
          </p:grpSpPr>
          <p:pic>
            <p:nvPicPr>
              <p:cNvPr id="367" name="AutoShap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2252520" y="2619360"/>
                <a:ext cx="4638960" cy="47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Text Box 5"/>
              <p:cNvSpPr/>
              <p:nvPr/>
            </p:nvSpPr>
            <p:spPr>
              <a:xfrm>
                <a:off x="2337480" y="2669400"/>
                <a:ext cx="44748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6"/>
            <p:cNvGrpSpPr/>
            <p:nvPr/>
          </p:nvGrpSpPr>
          <p:grpSpPr>
            <a:xfrm>
              <a:off x="2252520" y="2643120"/>
              <a:ext cx="4638960" cy="395280"/>
              <a:chOff x="2252520" y="2643120"/>
              <a:chExt cx="4638960" cy="395280"/>
            </a:xfrm>
          </p:grpSpPr>
          <p:pic>
            <p:nvPicPr>
              <p:cNvPr id="370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252520" y="2643120"/>
                <a:ext cx="4638960" cy="3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1" name="Text Box 8"/>
              <p:cNvSpPr/>
              <p:nvPr/>
            </p:nvSpPr>
            <p:spPr>
              <a:xfrm>
                <a:off x="2330640" y="2719440"/>
                <a:ext cx="4488120" cy="23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（二）资料搜集与文献综述撰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矩形 1"/>
          <p:cNvSpPr/>
          <p:nvPr/>
        </p:nvSpPr>
        <p:spPr>
          <a:xfrm>
            <a:off x="878040" y="2119320"/>
            <a:ext cx="2867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图书馆文献查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数据库资料搜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社会实践与调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矩形 2"/>
          <p:cNvSpPr/>
          <p:nvPr/>
        </p:nvSpPr>
        <p:spPr>
          <a:xfrm>
            <a:off x="6997320" y="1760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献资料的来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4" descr=""/>
          <p:cNvPicPr/>
          <p:nvPr/>
        </p:nvPicPr>
        <p:blipFill>
          <a:blip r:embed="rId1"/>
          <a:srcRect l="19766" t="860" r="22586" b="4744"/>
          <a:stretch/>
        </p:blipFill>
        <p:spPr>
          <a:xfrm>
            <a:off x="3376440" y="1176480"/>
            <a:ext cx="549144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矩形 1"/>
          <p:cNvSpPr/>
          <p:nvPr/>
        </p:nvSpPr>
        <p:spPr>
          <a:xfrm>
            <a:off x="220680" y="2055960"/>
            <a:ext cx="286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数据库资料搜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2"/>
          <p:cNvSpPr/>
          <p:nvPr/>
        </p:nvSpPr>
        <p:spPr>
          <a:xfrm>
            <a:off x="6997320" y="1760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献资料的来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图片 1"/>
          <p:cNvSpPr/>
          <p:nvPr/>
        </p:nvSpPr>
        <p:spPr>
          <a:xfrm>
            <a:off x="3624120" y="2496960"/>
            <a:ext cx="5273640" cy="32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图片 1"/>
          <p:cNvSpPr/>
          <p:nvPr/>
        </p:nvSpPr>
        <p:spPr>
          <a:xfrm>
            <a:off x="4572000" y="2857680"/>
            <a:ext cx="5273640" cy="32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对象 6" descr=""/>
          <p:cNvPicPr/>
          <p:nvPr/>
        </p:nvPicPr>
        <p:blipFill>
          <a:blip r:embed="rId1"/>
          <a:stretch/>
        </p:blipFill>
        <p:spPr>
          <a:xfrm>
            <a:off x="3087720" y="638280"/>
            <a:ext cx="5810040" cy="5465520"/>
          </a:xfrm>
          <a:prstGeom prst="rect">
            <a:avLst/>
          </a:prstGeom>
          <a:ln w="0">
            <a:noFill/>
          </a:ln>
        </p:spPr>
      </p:pic>
      <p:pic>
        <p:nvPicPr>
          <p:cNvPr id="380" name="对象 8" descr=""/>
          <p:cNvPicPr/>
          <p:nvPr/>
        </p:nvPicPr>
        <p:blipFill>
          <a:blip r:embed="rId2"/>
          <a:stretch/>
        </p:blipFill>
        <p:spPr>
          <a:xfrm>
            <a:off x="2560680" y="1211400"/>
            <a:ext cx="6507000" cy="4022640"/>
          </a:xfrm>
          <a:prstGeom prst="rect">
            <a:avLst/>
          </a:prstGeom>
          <a:ln w="0">
            <a:noFill/>
          </a:ln>
        </p:spPr>
      </p:pic>
      <p:pic>
        <p:nvPicPr>
          <p:cNvPr id="381" name="对象 10" descr=""/>
          <p:cNvPicPr/>
          <p:nvPr/>
        </p:nvPicPr>
        <p:blipFill>
          <a:blip r:embed="rId3"/>
          <a:stretch/>
        </p:blipFill>
        <p:spPr>
          <a:xfrm>
            <a:off x="2560680" y="2008080"/>
            <a:ext cx="6316560" cy="3784680"/>
          </a:xfrm>
          <a:prstGeom prst="rect">
            <a:avLst/>
          </a:prstGeom>
          <a:ln w="0">
            <a:noFill/>
          </a:ln>
        </p:spPr>
      </p:pic>
      <p:pic>
        <p:nvPicPr>
          <p:cNvPr id="382" name="对象 12" descr=""/>
          <p:cNvPicPr/>
          <p:nvPr/>
        </p:nvPicPr>
        <p:blipFill>
          <a:blip r:embed="rId4"/>
          <a:stretch/>
        </p:blipFill>
        <p:spPr>
          <a:xfrm>
            <a:off x="2576520" y="1646280"/>
            <a:ext cx="628488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文本框 1"/>
          <p:cNvSpPr/>
          <p:nvPr/>
        </p:nvSpPr>
        <p:spPr>
          <a:xfrm>
            <a:off x="1031760" y="1593720"/>
            <a:ext cx="674856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、本科毕业设计（论文）功能的内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本科毕业论文的写作规范与基本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三、本科毕业设计的形式与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2"/>
          <p:cNvSpPr/>
          <p:nvPr/>
        </p:nvSpPr>
        <p:spPr>
          <a:xfrm>
            <a:off x="5979960" y="1382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要讲授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矩形 1"/>
          <p:cNvSpPr/>
          <p:nvPr/>
        </p:nvSpPr>
        <p:spPr>
          <a:xfrm>
            <a:off x="7041240" y="2048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献资料的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3"/>
          <p:cNvGrpSpPr/>
          <p:nvPr/>
        </p:nvGrpSpPr>
        <p:grpSpPr>
          <a:xfrm>
            <a:off x="208080" y="822240"/>
            <a:ext cx="4840200" cy="2517840"/>
            <a:chOff x="208080" y="822240"/>
            <a:chExt cx="4840200" cy="2517840"/>
          </a:xfrm>
        </p:grpSpPr>
        <p:pic>
          <p:nvPicPr>
            <p:cNvPr id="385" name="矩形 2" descr=""/>
            <p:cNvPicPr/>
            <p:nvPr/>
          </p:nvPicPr>
          <p:blipFill>
            <a:blip r:embed="rId1"/>
            <a:stretch/>
          </p:blipFill>
          <p:spPr>
            <a:xfrm>
              <a:off x="208080" y="822240"/>
              <a:ext cx="484020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Text Box 5"/>
            <p:cNvSpPr/>
            <p:nvPr/>
          </p:nvSpPr>
          <p:spPr>
            <a:xfrm>
              <a:off x="304920" y="885600"/>
              <a:ext cx="4208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原始文献：</a:t>
              </a: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直接以生产、科研、社会活动等实践经验为依据生产出来的文献，包括专著、科学论文、研究报告、会议文献、专利、公开档案等；个人日记、调查报告、信函、手稿和单位会议记录、备忘录等。</a:t>
              </a:r>
              <a:r>
                <a:rPr b="1" lang="en-US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【</a:t>
              </a:r>
              <a:r>
                <a:rPr b="1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参考价值最高</a:t>
              </a:r>
              <a:r>
                <a:rPr b="1" lang="en-US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7" name="矩形 3" descr=""/>
          <p:cNvPicPr/>
          <p:nvPr/>
        </p:nvPicPr>
        <p:blipFill>
          <a:blip r:embed="rId2"/>
          <a:stretch/>
        </p:blipFill>
        <p:spPr>
          <a:xfrm>
            <a:off x="281160" y="3359160"/>
            <a:ext cx="4437000" cy="1792440"/>
          </a:xfrm>
          <a:prstGeom prst="rect">
            <a:avLst/>
          </a:prstGeom>
          <a:ln w="0">
            <a:noFill/>
          </a:ln>
        </p:spPr>
      </p:pic>
      <p:pic>
        <p:nvPicPr>
          <p:cNvPr id="388" name="矩形 4" descr=""/>
          <p:cNvPicPr/>
          <p:nvPr/>
        </p:nvPicPr>
        <p:blipFill>
          <a:blip r:embed="rId3"/>
          <a:stretch/>
        </p:blipFill>
        <p:spPr>
          <a:xfrm>
            <a:off x="4906800" y="1852560"/>
            <a:ext cx="420696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矩形 1"/>
          <p:cNvSpPr/>
          <p:nvPr/>
        </p:nvSpPr>
        <p:spPr>
          <a:xfrm>
            <a:off x="7041240" y="1760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献综述的撰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矩形 2"/>
          <p:cNvSpPr/>
          <p:nvPr/>
        </p:nvSpPr>
        <p:spPr>
          <a:xfrm>
            <a:off x="682560" y="1255680"/>
            <a:ext cx="4425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选题的研究现状（理论渊源及演化、国外相关研究、国内相关研究）：对前人的研究作简要介绍，说明自己研究与他们的研究存在什么样的区别，自己打算如何创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990000"/>
                </a:solidFill>
                <a:latin typeface="宋体"/>
                <a:ea typeface="宋体"/>
              </a:rPr>
              <a:t>综述不是文献的堆砌，要简练，要有概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TextBox 3" descr=""/>
          <p:cNvPicPr/>
          <p:nvPr/>
        </p:nvPicPr>
        <p:blipFill>
          <a:blip r:embed="rId1"/>
          <a:stretch/>
        </p:blipFill>
        <p:spPr>
          <a:xfrm>
            <a:off x="5961240" y="909720"/>
            <a:ext cx="2849400" cy="231624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5994360" y="3686040"/>
            <a:ext cx="2873520" cy="87588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文献综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统一的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格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需要标注相应的参考文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矩形 1"/>
          <p:cNvSpPr/>
          <p:nvPr/>
        </p:nvSpPr>
        <p:spPr>
          <a:xfrm>
            <a:off x="7055280" y="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题报告的撰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9"/>
          <p:cNvSpPr/>
          <p:nvPr/>
        </p:nvSpPr>
        <p:spPr>
          <a:xfrm>
            <a:off x="2526120" y="1903320"/>
            <a:ext cx="343908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选题依据和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研究内容（主要指标和预期目标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研究条件（包括需要的仪器和材料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研究方法和技术路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进展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11"/>
          <p:cNvSpPr/>
          <p:nvPr/>
        </p:nvSpPr>
        <p:spPr>
          <a:xfrm>
            <a:off x="739800" y="754200"/>
            <a:ext cx="7910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黑体"/>
                <a:ea typeface="黑体"/>
                <a:hlinkClick r:id="rId1"/>
              </a:rPr>
              <a:t>开题报告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师生共同对选题所做的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可行性论证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报告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论文指导与写作的组成部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"/>
          <p:cNvGrpSpPr/>
          <p:nvPr/>
        </p:nvGrpSpPr>
        <p:grpSpPr>
          <a:xfrm>
            <a:off x="2252520" y="2619360"/>
            <a:ext cx="4638960" cy="476280"/>
            <a:chOff x="2252520" y="2619360"/>
            <a:chExt cx="4638960" cy="476280"/>
          </a:xfrm>
        </p:grpSpPr>
        <p:grpSp>
          <p:nvGrpSpPr>
            <p:cNvPr id="397" name="Group 3"/>
            <p:cNvGrpSpPr/>
            <p:nvPr/>
          </p:nvGrpSpPr>
          <p:grpSpPr>
            <a:xfrm>
              <a:off x="2252520" y="2619360"/>
              <a:ext cx="4638960" cy="476280"/>
              <a:chOff x="2252520" y="2619360"/>
              <a:chExt cx="4638960" cy="476280"/>
            </a:xfrm>
          </p:grpSpPr>
          <p:pic>
            <p:nvPicPr>
              <p:cNvPr id="398" name="AutoShap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2252520" y="2619360"/>
                <a:ext cx="4638960" cy="47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9" name="Text Box 5"/>
              <p:cNvSpPr/>
              <p:nvPr/>
            </p:nvSpPr>
            <p:spPr>
              <a:xfrm>
                <a:off x="2337480" y="2669400"/>
                <a:ext cx="44748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Group 6"/>
            <p:cNvGrpSpPr/>
            <p:nvPr/>
          </p:nvGrpSpPr>
          <p:grpSpPr>
            <a:xfrm>
              <a:off x="2252520" y="2643120"/>
              <a:ext cx="4638960" cy="395280"/>
              <a:chOff x="2252520" y="2643120"/>
              <a:chExt cx="4638960" cy="395280"/>
            </a:xfrm>
          </p:grpSpPr>
          <p:pic>
            <p:nvPicPr>
              <p:cNvPr id="401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252520" y="2643120"/>
                <a:ext cx="4638960" cy="3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2" name="Text Box 8"/>
              <p:cNvSpPr/>
              <p:nvPr/>
            </p:nvSpPr>
            <p:spPr>
              <a:xfrm>
                <a:off x="2330640" y="2719440"/>
                <a:ext cx="4488120" cy="23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（三）毕业论文的写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矩形 1"/>
          <p:cNvSpPr/>
          <p:nvPr/>
        </p:nvSpPr>
        <p:spPr>
          <a:xfrm>
            <a:off x="6463080" y="176040"/>
            <a:ext cx="1826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毕业论文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组成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2"/>
          <p:cNvSpPr/>
          <p:nvPr/>
        </p:nvSpPr>
        <p:spPr>
          <a:xfrm>
            <a:off x="1749600" y="1125360"/>
            <a:ext cx="4572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Arial"/>
                <a:ea typeface="宋体"/>
              </a:rPr>
              <a:t>封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Arial"/>
                <a:ea typeface="宋体"/>
              </a:rPr>
              <a:t>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Arial"/>
                <a:ea typeface="宋体"/>
              </a:rPr>
              <a:t>标题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【</a:t>
            </a:r>
            <a:r>
              <a:rPr b="1" lang="zh-CN" sz="2000" spc="-1" strike="noStrike">
                <a:solidFill>
                  <a:srgbClr val="002060"/>
                </a:solidFill>
                <a:latin typeface="Arial"/>
                <a:ea typeface="宋体"/>
              </a:rPr>
              <a:t>中英文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Arial"/>
                <a:ea typeface="宋体"/>
              </a:rPr>
              <a:t>作者、指导老师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【</a:t>
            </a:r>
            <a:r>
              <a:rPr b="1" lang="zh-CN" sz="2000" spc="-1" strike="noStrike">
                <a:solidFill>
                  <a:srgbClr val="002060"/>
                </a:solidFill>
                <a:latin typeface="Arial"/>
                <a:ea typeface="宋体"/>
              </a:rPr>
              <a:t>中英文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Arial"/>
                <a:ea typeface="宋体"/>
              </a:rPr>
              <a:t>摘要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【</a:t>
            </a:r>
            <a:r>
              <a:rPr b="1" lang="zh-CN" sz="2000" spc="-1" strike="noStrike">
                <a:solidFill>
                  <a:srgbClr val="002060"/>
                </a:solidFill>
                <a:latin typeface="Arial"/>
                <a:ea typeface="宋体"/>
              </a:rPr>
              <a:t>中英文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Arial"/>
                <a:ea typeface="宋体"/>
              </a:rPr>
              <a:t>关键词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【</a:t>
            </a:r>
            <a:r>
              <a:rPr b="1" lang="zh-CN" sz="2000" spc="-1" strike="noStrike">
                <a:solidFill>
                  <a:srgbClr val="002060"/>
                </a:solidFill>
                <a:latin typeface="Arial"/>
                <a:ea typeface="宋体"/>
              </a:rPr>
              <a:t>中英文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Arial"/>
                <a:ea typeface="宋体"/>
              </a:rPr>
              <a:t>作者简介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【</a:t>
            </a:r>
            <a:r>
              <a:rPr b="1" lang="zh-CN" sz="2000" spc="-1" strike="noStrike">
                <a:solidFill>
                  <a:srgbClr val="002060"/>
                </a:solidFill>
                <a:latin typeface="Arial"/>
                <a:ea typeface="宋体"/>
              </a:rPr>
              <a:t>中英文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Arial"/>
                <a:ea typeface="宋体"/>
              </a:rPr>
              <a:t>正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Arial"/>
                <a:ea typeface="宋体"/>
              </a:rPr>
              <a:t>注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Arial"/>
                <a:ea typeface="宋体"/>
              </a:rPr>
              <a:t>参考文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Arial"/>
                <a:ea typeface="宋体"/>
              </a:rPr>
              <a:t>致谢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矩形 1"/>
          <p:cNvSpPr/>
          <p:nvPr/>
        </p:nvSpPr>
        <p:spPr>
          <a:xfrm>
            <a:off x="7068960" y="190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的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2"/>
          <p:cNvSpPr/>
          <p:nvPr/>
        </p:nvSpPr>
        <p:spPr>
          <a:xfrm>
            <a:off x="4782960" y="871560"/>
            <a:ext cx="37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※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目录中的标题应与文中标题对应一致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※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目录应有页码且与正文的页码相对应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※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  <a:ea typeface="宋体"/>
              </a:rPr>
              <a:t>一般而言，应包含有三级标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3"/>
          <p:cNvSpPr/>
          <p:nvPr/>
        </p:nvSpPr>
        <p:spPr>
          <a:xfrm>
            <a:off x="739800" y="712800"/>
            <a:ext cx="3524400" cy="291276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目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论文写作的提纲，也是研究过程和思考过程的概括再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论文的所有内容都要在目录中体现出来。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正文中列小标题的必要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矩形 1"/>
          <p:cNvSpPr/>
          <p:nvPr/>
        </p:nvSpPr>
        <p:spPr>
          <a:xfrm>
            <a:off x="7041240" y="2048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2"/>
          <p:cNvSpPr/>
          <p:nvPr/>
        </p:nvSpPr>
        <p:spPr>
          <a:xfrm>
            <a:off x="581040" y="153360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基本要求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标题应能反映论文的中心内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让人一目了然。拟题时应简明、具体、确切，字数要适当，一般不宜超过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字，有必要时可拟定副标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3"/>
          <p:cNvSpPr/>
          <p:nvPr/>
        </p:nvSpPr>
        <p:spPr>
          <a:xfrm>
            <a:off x="3457440" y="1117440"/>
            <a:ext cx="5381640" cy="2868480"/>
          </a:xfrm>
          <a:prstGeom prst="rect">
            <a:avLst/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电视新闻娱乐化的成因及其影响</a:t>
            </a: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数字时代地方调频广播的生存现状与发展前景</a:t>
            </a: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早间电视新闻节目形式与内容的定位策略</a:t>
            </a: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中央电视台春节晚会中的农民工形象分析</a:t>
            </a: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高校小型演播厅声光系统的优化与利用</a:t>
            </a: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电视访谈节目中主持人的功能分析</a:t>
            </a: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以</a:t>
            </a: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〈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鲁豫有约</a:t>
            </a: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〉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为例</a:t>
            </a: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网络公益广告的制作技巧与传播效果研究</a:t>
            </a:r>
            <a:r>
              <a:rPr b="1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矩形 1"/>
          <p:cNvSpPr/>
          <p:nvPr/>
        </p:nvSpPr>
        <p:spPr>
          <a:xfrm>
            <a:off x="7055280" y="190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的摘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"/>
          <p:cNvSpPr/>
          <p:nvPr/>
        </p:nvSpPr>
        <p:spPr>
          <a:xfrm>
            <a:off x="696960" y="2514600"/>
            <a:ext cx="4687920" cy="1266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宋体"/>
              </a:rPr>
              <a:t>论文的“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摘要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宋体"/>
              </a:rPr>
              <a:t>”是对文章内容的高度概括，</a:t>
            </a:r>
            <a:r>
              <a:rPr b="1" lang="zh-CN" sz="2400" spc="-1" strike="noStrike">
                <a:solidFill>
                  <a:srgbClr val="003366"/>
                </a:solidFill>
                <a:latin typeface="宋体"/>
                <a:ea typeface="宋体"/>
              </a:rPr>
              <a:t>要完整反映论文主体内容和主要观点，文字要简洁概括，明确清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宋体"/>
              </a:rPr>
              <a:t>摘要一般由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目的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宋体"/>
              </a:rPr>
              <a:t>（研究缘起）、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方法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宋体"/>
              </a:rPr>
              <a:t>（研究方法）、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结果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宋体"/>
              </a:rPr>
              <a:t>（新发现）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结论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宋体"/>
              </a:rPr>
              <a:t>（主要观点及其价值）四部分组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矩形 5" descr=""/>
          <p:cNvPicPr/>
          <p:nvPr/>
        </p:nvPicPr>
        <p:blipFill>
          <a:blip r:embed="rId2"/>
          <a:stretch/>
        </p:blipFill>
        <p:spPr>
          <a:xfrm>
            <a:off x="6072120" y="1023840"/>
            <a:ext cx="282744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矩形 1"/>
          <p:cNvSpPr/>
          <p:nvPr/>
        </p:nvSpPr>
        <p:spPr>
          <a:xfrm>
            <a:off x="6809760" y="1904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的关键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矩形 2"/>
          <p:cNvSpPr/>
          <p:nvPr/>
        </p:nvSpPr>
        <p:spPr>
          <a:xfrm>
            <a:off x="358920" y="1204920"/>
            <a:ext cx="3342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从论文的题目、摘要和正文中提炼出对表达主题内容具有实质意义的词语。一般选择贯穿全文主要观点的词语作为关键词。关键词数量一般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-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4078440" y="1296000"/>
            <a:ext cx="4427280" cy="3070440"/>
          </a:xfrm>
          <a:prstGeom prst="rect">
            <a:avLst/>
          </a:prstGeom>
          <a:noFill/>
          <a:ln w="9360">
            <a:solidFill>
              <a:srgbClr val="f79646"/>
            </a:solidFill>
            <a:miter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不能将标题简单拆分变成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关键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宋体"/>
              </a:rPr>
              <a:t>网络时评的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宋体"/>
              </a:rPr>
              <a:t>现状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宋体"/>
              </a:rPr>
              <a:t>及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宋体"/>
              </a:rPr>
              <a:t>创新策略</a:t>
            </a:r>
            <a:r>
              <a:rPr b="1" lang="en-US" sz="2400" spc="-1" strike="noStrike">
                <a:solidFill>
                  <a:srgbClr val="003366"/>
                </a:solidFill>
                <a:latin typeface="黑体"/>
                <a:ea typeface="Times New Roman"/>
              </a:rPr>
              <a:t>——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宋体"/>
              </a:rPr>
              <a:t>以</a:t>
            </a:r>
            <a:r>
              <a:rPr b="1" lang="en-US" sz="2400" spc="-1" strike="noStrike">
                <a:solidFill>
                  <a:srgbClr val="003366"/>
                </a:solidFill>
                <a:latin typeface="黑体"/>
              </a:rPr>
              <a:t>《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宋体"/>
              </a:rPr>
              <a:t>人民时评</a:t>
            </a:r>
            <a:r>
              <a:rPr b="1" lang="en-US" sz="2400" spc="-1" strike="noStrike">
                <a:solidFill>
                  <a:srgbClr val="003366"/>
                </a:solidFill>
                <a:latin typeface="黑体"/>
              </a:rPr>
              <a:t>》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宋体"/>
              </a:rPr>
              <a:t>为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仿宋_GB2312"/>
                <a:ea typeface="仿宋_GB2312"/>
              </a:rPr>
              <a:t>关键词：网络时评  舆论监督  意见领袖  传播效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没有明确指向的“中性”词语：出路、问题、启示、措施、政策、策略、意义等不能做关键词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矩形 1"/>
          <p:cNvSpPr/>
          <p:nvPr/>
        </p:nvSpPr>
        <p:spPr>
          <a:xfrm>
            <a:off x="7244280" y="2048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的正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"/>
          <p:cNvSpPr/>
          <p:nvPr/>
        </p:nvSpPr>
        <p:spPr>
          <a:xfrm>
            <a:off x="465120" y="1630080"/>
            <a:ext cx="4513320" cy="2364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黑体"/>
              </a:rPr>
              <a:t>  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正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包括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引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本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结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三部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论文的主体若分为若干部分来论述，应尽可能加上小标题表示出各部分的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标题末一般不用标点符号（问号、叹号、省略号除外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矩形 3" descr=""/>
          <p:cNvPicPr/>
          <p:nvPr/>
        </p:nvPicPr>
        <p:blipFill>
          <a:blip r:embed="rId2"/>
          <a:stretch/>
        </p:blipFill>
        <p:spPr>
          <a:xfrm>
            <a:off x="5432400" y="1432080"/>
            <a:ext cx="350532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文本框 1"/>
          <p:cNvSpPr/>
          <p:nvPr/>
        </p:nvSpPr>
        <p:spPr>
          <a:xfrm>
            <a:off x="996840" y="2421000"/>
            <a:ext cx="67485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、本科毕业设计（论文）功能的内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2"/>
          <p:cNvSpPr/>
          <p:nvPr/>
        </p:nvSpPr>
        <p:spPr>
          <a:xfrm>
            <a:off x="5979960" y="1382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要讲授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矩形 1"/>
          <p:cNvSpPr/>
          <p:nvPr/>
        </p:nvSpPr>
        <p:spPr>
          <a:xfrm>
            <a:off x="7044480" y="17604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引言（引论、绪论）的写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2"/>
          <p:cNvSpPr/>
          <p:nvPr/>
        </p:nvSpPr>
        <p:spPr>
          <a:xfrm>
            <a:off x="652320" y="771480"/>
            <a:ext cx="5588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引言的主要任务是向读者勾勒出全文的基本内容和轮廓，包括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简要介绍研究的对象及其社会背景、发展状况、当前水平等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进行文献综述，包括已有的成果，已解决的问题，并适当加以评价或比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指出前人尚未解决的问题，提出新方法、新思路，引出自己研究课题的动机与意义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明自己研究课题的主要目标与预期价值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概括论文主要内容，或勾勒其大体轮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引言中文献综述内容不少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TextBox 3" descr=""/>
          <p:cNvPicPr/>
          <p:nvPr/>
        </p:nvPicPr>
        <p:blipFill>
          <a:blip r:embed="rId1"/>
          <a:stretch/>
        </p:blipFill>
        <p:spPr>
          <a:xfrm>
            <a:off x="6799320" y="1146240"/>
            <a:ext cx="196848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矩形 1"/>
          <p:cNvSpPr/>
          <p:nvPr/>
        </p:nvSpPr>
        <p:spPr>
          <a:xfrm>
            <a:off x="7244280" y="190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论部分的写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"/>
          <p:cNvSpPr/>
          <p:nvPr/>
        </p:nvSpPr>
        <p:spPr>
          <a:xfrm>
            <a:off x="479520" y="1755360"/>
            <a:ext cx="3889440" cy="2288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黑体"/>
              </a:rPr>
              <a:t>  </a:t>
            </a:r>
            <a:r>
              <a:rPr b="1" lang="zh-CN" sz="2400" spc="-1" strike="noStrike">
                <a:solidFill>
                  <a:srgbClr val="993300"/>
                </a:solidFill>
                <a:latin typeface="黑体"/>
                <a:ea typeface="宋体"/>
              </a:rPr>
              <a:t>本论是论文的主体，通过分析问题、论证观点，展示作者的研究成果和学术水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黑体"/>
              </a:rPr>
              <a:t>  </a:t>
            </a:r>
            <a:r>
              <a:rPr b="1" lang="zh-CN" sz="2400" spc="-1" strike="noStrike">
                <a:solidFill>
                  <a:srgbClr val="993300"/>
                </a:solidFill>
                <a:latin typeface="黑体"/>
                <a:ea typeface="宋体"/>
              </a:rPr>
              <a:t>就引言提出的问题，运用理论研究和实践操作相结合的方法进行分析论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矩形 3" descr=""/>
          <p:cNvPicPr/>
          <p:nvPr/>
        </p:nvPicPr>
        <p:blipFill>
          <a:blip r:embed="rId1"/>
          <a:stretch/>
        </p:blipFill>
        <p:spPr>
          <a:xfrm>
            <a:off x="5145120" y="1292400"/>
            <a:ext cx="3749760" cy="3481200"/>
          </a:xfrm>
          <a:prstGeom prst="rect">
            <a:avLst/>
          </a:prstGeom>
          <a:ln w="0">
            <a:noFill/>
          </a:ln>
        </p:spPr>
      </p:pic>
      <p:grpSp>
        <p:nvGrpSpPr>
          <p:cNvPr id="426" name="Group 5"/>
          <p:cNvGrpSpPr/>
          <p:nvPr/>
        </p:nvGrpSpPr>
        <p:grpSpPr>
          <a:xfrm>
            <a:off x="5346720" y="665280"/>
            <a:ext cx="3016080" cy="645840"/>
            <a:chOff x="5346720" y="665280"/>
            <a:chExt cx="3016080" cy="645840"/>
          </a:xfrm>
        </p:grpSpPr>
        <p:pic>
          <p:nvPicPr>
            <p:cNvPr id="427" name="矩形 4" descr=""/>
            <p:cNvPicPr/>
            <p:nvPr/>
          </p:nvPicPr>
          <p:blipFill>
            <a:blip r:embed="rId2"/>
            <a:stretch/>
          </p:blipFill>
          <p:spPr>
            <a:xfrm>
              <a:off x="5346720" y="665280"/>
              <a:ext cx="301608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Text Box 7"/>
            <p:cNvSpPr/>
            <p:nvPr/>
          </p:nvSpPr>
          <p:spPr>
            <a:xfrm>
              <a:off x="5500800" y="760320"/>
              <a:ext cx="280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66"/>
                  </a:solidFill>
                  <a:latin typeface="Times New Roman"/>
                  <a:ea typeface="宋体"/>
                </a:rPr>
                <a:t>本论部分常用结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矩形 1"/>
          <p:cNvSpPr/>
          <p:nvPr/>
        </p:nvSpPr>
        <p:spPr>
          <a:xfrm>
            <a:off x="4545360" y="15552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好本论的关键：材料与观点的有机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3"/>
          <p:cNvGrpSpPr/>
          <p:nvPr/>
        </p:nvGrpSpPr>
        <p:grpSpPr>
          <a:xfrm>
            <a:off x="1306440" y="747720"/>
            <a:ext cx="7211880" cy="938160"/>
            <a:chOff x="1306440" y="747720"/>
            <a:chExt cx="7211880" cy="938160"/>
          </a:xfrm>
        </p:grpSpPr>
        <p:pic>
          <p:nvPicPr>
            <p:cNvPr id="431" name="矩形 3" descr=""/>
            <p:cNvPicPr/>
            <p:nvPr/>
          </p:nvPicPr>
          <p:blipFill>
            <a:blip r:embed="rId1"/>
            <a:stretch/>
          </p:blipFill>
          <p:spPr>
            <a:xfrm>
              <a:off x="1306440" y="747720"/>
              <a:ext cx="721188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Text Box 5"/>
            <p:cNvSpPr/>
            <p:nvPr/>
          </p:nvSpPr>
          <p:spPr>
            <a:xfrm>
              <a:off x="1446120" y="855720"/>
              <a:ext cx="650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总体原则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：</a:t>
              </a:r>
              <a:r>
                <a:rPr b="1" lang="zh-CN" sz="2400" spc="-1" strike="noStrike">
                  <a:solidFill>
                    <a:srgbClr val="ffff00"/>
                  </a:solidFill>
                  <a:latin typeface="Arial"/>
                  <a:ea typeface="宋体"/>
                </a:rPr>
                <a:t>用观点统帅材料，以材料证明观点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extBox 4"/>
          <p:cNvSpPr/>
          <p:nvPr/>
        </p:nvSpPr>
        <p:spPr>
          <a:xfrm>
            <a:off x="747720" y="1685880"/>
            <a:ext cx="7612200" cy="2338920"/>
          </a:xfrm>
          <a:prstGeom prst="rect">
            <a:avLst/>
          </a:prstGeom>
          <a:noFill/>
          <a:ln w="93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思维路径与操作方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从选题出发，总体研读把握既有的文献材料，找出研究对象存在的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预设主要观点，并提出各部分的分论点，注意观点间的逻辑关系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列出目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将材料按照内容放入不同的分论点之下，形成论文的有机整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同一内容层次中，既可以先摆观点再列材料，也可以先列材料再摆观点，还可以边摆观点边列材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矩形 1"/>
          <p:cNvSpPr/>
          <p:nvPr/>
        </p:nvSpPr>
        <p:spPr>
          <a:xfrm>
            <a:off x="7489080" y="142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要论证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矩形 2" descr=""/>
          <p:cNvPicPr/>
          <p:nvPr/>
        </p:nvPicPr>
        <p:blipFill>
          <a:blip r:embed="rId1"/>
          <a:stretch/>
        </p:blipFill>
        <p:spPr>
          <a:xfrm>
            <a:off x="1322280" y="841320"/>
            <a:ext cx="6201000" cy="749520"/>
          </a:xfrm>
          <a:prstGeom prst="rect">
            <a:avLst/>
          </a:prstGeom>
          <a:ln w="0">
            <a:noFill/>
          </a:ln>
        </p:spPr>
      </p:pic>
      <p:pic>
        <p:nvPicPr>
          <p:cNvPr id="436" name="矩形 3" descr=""/>
          <p:cNvPicPr/>
          <p:nvPr/>
        </p:nvPicPr>
        <p:blipFill>
          <a:blip r:embed="rId2"/>
          <a:stretch/>
        </p:blipFill>
        <p:spPr>
          <a:xfrm>
            <a:off x="1322280" y="1847880"/>
            <a:ext cx="6212160" cy="755640"/>
          </a:xfrm>
          <a:prstGeom prst="rect">
            <a:avLst/>
          </a:prstGeom>
          <a:ln w="0">
            <a:noFill/>
          </a:ln>
        </p:spPr>
      </p:pic>
      <p:pic>
        <p:nvPicPr>
          <p:cNvPr id="437" name="矩形 4" descr=""/>
          <p:cNvPicPr/>
          <p:nvPr/>
        </p:nvPicPr>
        <p:blipFill>
          <a:blip r:embed="rId3"/>
          <a:stretch/>
        </p:blipFill>
        <p:spPr>
          <a:xfrm>
            <a:off x="1316160" y="2908440"/>
            <a:ext cx="6211800" cy="755640"/>
          </a:xfrm>
          <a:prstGeom prst="rect">
            <a:avLst/>
          </a:prstGeom>
          <a:ln w="0">
            <a:noFill/>
          </a:ln>
        </p:spPr>
      </p:pic>
      <p:pic>
        <p:nvPicPr>
          <p:cNvPr id="438" name="矩形 5" descr=""/>
          <p:cNvPicPr/>
          <p:nvPr/>
        </p:nvPicPr>
        <p:blipFill>
          <a:blip r:embed="rId4"/>
          <a:stretch/>
        </p:blipFill>
        <p:spPr>
          <a:xfrm>
            <a:off x="1298520" y="4041720"/>
            <a:ext cx="621828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矩形 1"/>
          <p:cNvSpPr/>
          <p:nvPr/>
        </p:nvSpPr>
        <p:spPr>
          <a:xfrm>
            <a:off x="5794200" y="155520"/>
            <a:ext cx="33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论部分常见写作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2"/>
          <p:cNvSpPr/>
          <p:nvPr/>
        </p:nvSpPr>
        <p:spPr>
          <a:xfrm>
            <a:off x="1050840" y="1346040"/>
            <a:ext cx="7534440" cy="82548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首括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先提出中心论点，然后从几个方面去论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总提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分论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——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分论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——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分论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矩形 3"/>
          <p:cNvSpPr/>
          <p:nvPr/>
        </p:nvSpPr>
        <p:spPr>
          <a:xfrm>
            <a:off x="1046160" y="2517840"/>
            <a:ext cx="7491240" cy="82548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尾括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先进行分论点，在此基础上提出中心论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分论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——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分论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——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分论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——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总论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7"/>
          <p:cNvSpPr/>
          <p:nvPr/>
        </p:nvSpPr>
        <p:spPr>
          <a:xfrm>
            <a:off x="1044720" y="3622680"/>
            <a:ext cx="7516800" cy="82548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推进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一步一步深入，是由浅入深的论证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提出问题、叙述现象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分析问题、找出症结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解决问题、得出结论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矩形 1"/>
          <p:cNvSpPr/>
          <p:nvPr/>
        </p:nvSpPr>
        <p:spPr>
          <a:xfrm>
            <a:off x="7244280" y="142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的结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"/>
          <p:cNvSpPr/>
          <p:nvPr/>
        </p:nvSpPr>
        <p:spPr>
          <a:xfrm>
            <a:off x="4060800" y="2225520"/>
            <a:ext cx="4643640" cy="1922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黑体"/>
              </a:rPr>
              <a:t>  </a:t>
            </a:r>
            <a:r>
              <a:rPr b="1" lang="zh-CN" sz="2400" spc="-1" strike="noStrike">
                <a:solidFill>
                  <a:srgbClr val="993300"/>
                </a:solidFill>
                <a:latin typeface="黑体"/>
                <a:ea typeface="宋体"/>
              </a:rPr>
              <a:t>结论部分包括以下内容：</a:t>
            </a:r>
            <a:br>
              <a:rPr sz="2400"/>
            </a:br>
            <a:r>
              <a:rPr b="1" lang="zh-CN" sz="2400" spc="-1" strike="noStrike">
                <a:solidFill>
                  <a:srgbClr val="003366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前文充分论证思考的基础上，提出自己的最终结论与核心观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全文所论证的问题进行归纳，提出自己的总体看法和探索性意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出课题研究中所存在的局限与不足，为他人继续研究指明方向、提供线索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3"/>
          <p:cNvSpPr/>
          <p:nvPr/>
        </p:nvSpPr>
        <p:spPr>
          <a:xfrm>
            <a:off x="771480" y="1158840"/>
            <a:ext cx="2838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宋体"/>
              </a:rPr>
              <a:t>结论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宋体"/>
              </a:rPr>
              <a:t>是毕业论文中带有总结性质的文字</a:t>
            </a:r>
            <a:r>
              <a:rPr b="1" lang="zh-CN" sz="2400" spc="-1" strike="noStrike">
                <a:solidFill>
                  <a:srgbClr val="003366"/>
                </a:solidFill>
                <a:latin typeface="宋体"/>
                <a:ea typeface="宋体"/>
              </a:rPr>
              <a:t>，也是对文章主要观点的概括和升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宋体"/>
              </a:rPr>
              <a:t>结论部分一般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宋体"/>
              </a:rPr>
              <a:t>不要提出新的观点或材料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宋体"/>
              </a:rPr>
              <a:t>；结论的语言要简洁有力，给读者留下深刻的印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矩形 2"/>
          <p:cNvSpPr/>
          <p:nvPr/>
        </p:nvSpPr>
        <p:spPr>
          <a:xfrm>
            <a:off x="7244280" y="0"/>
            <a:ext cx="1460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注释与参考文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3"/>
          <p:cNvSpPr/>
          <p:nvPr/>
        </p:nvSpPr>
        <p:spPr>
          <a:xfrm>
            <a:off x="297000" y="1022400"/>
            <a:ext cx="4333680" cy="703800"/>
          </a:xfrm>
          <a:prstGeom prst="rect">
            <a:avLst/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注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是对论著正文中某一特定内容的进一步解释或补充说明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实际操作过程中，许多期刊学术论文和毕业学位论文将文中引用的理论、观点、材料处理为“注释”，注释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以上，近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年不少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矩形 4"/>
          <p:cNvSpPr/>
          <p:nvPr/>
        </p:nvSpPr>
        <p:spPr>
          <a:xfrm>
            <a:off x="303120" y="3191040"/>
            <a:ext cx="4351320" cy="100872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参考文献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是作者写作论著时所参考的文献书目，一般应限于作者直接阅读过的、最主要的、发表在正式出版物上的文献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般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项以上，近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项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以上，其中外文文献不少于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TextBox 5" descr=""/>
          <p:cNvPicPr/>
          <p:nvPr/>
        </p:nvPicPr>
        <p:blipFill>
          <a:blip r:embed="rId2"/>
          <a:stretch/>
        </p:blipFill>
        <p:spPr>
          <a:xfrm>
            <a:off x="5278320" y="950760"/>
            <a:ext cx="3640320" cy="38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矩形 1"/>
          <p:cNvSpPr/>
          <p:nvPr/>
        </p:nvSpPr>
        <p:spPr>
          <a:xfrm>
            <a:off x="7244280" y="142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参考文献的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1523880" y="825480"/>
          <a:ext cx="6553080" cy="1943280"/>
        </p:xfrm>
        <a:graphic>
          <a:graphicData uri="http://schemas.openxmlformats.org/drawingml/2006/table">
            <a:tbl>
              <a:tblPr/>
              <a:tblGrid>
                <a:gridCol w="1368360"/>
                <a:gridCol w="574920"/>
                <a:gridCol w="914400"/>
                <a:gridCol w="799920"/>
                <a:gridCol w="800280"/>
                <a:gridCol w="1015920"/>
                <a:gridCol w="1079280"/>
              </a:tblGrid>
              <a:tr h="1011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参考文献类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专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会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论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报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期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学位论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报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文献类型标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2" name=""/>
          <p:cNvGraphicFramePr/>
          <p:nvPr/>
        </p:nvGraphicFramePr>
        <p:xfrm>
          <a:off x="1566720" y="3165480"/>
          <a:ext cx="6519960" cy="1849320"/>
        </p:xfrm>
        <a:graphic>
          <a:graphicData uri="http://schemas.openxmlformats.org/drawingml/2006/table">
            <a:tbl>
              <a:tblPr/>
              <a:tblGrid>
                <a:gridCol w="2193840"/>
                <a:gridCol w="1343160"/>
                <a:gridCol w="1647720"/>
                <a:gridCol w="1335240"/>
              </a:tblGrid>
              <a:tr h="92376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电子参考文献类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数据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网上期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电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公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电子文献类型标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DB/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J/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EB/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矩形 1"/>
          <p:cNvSpPr/>
          <p:nvPr/>
        </p:nvSpPr>
        <p:spPr>
          <a:xfrm>
            <a:off x="5200560" y="0"/>
            <a:ext cx="39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注释与参考文献的格式规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5"/>
          <p:cNvSpPr/>
          <p:nvPr/>
        </p:nvSpPr>
        <p:spPr>
          <a:xfrm>
            <a:off x="2089080" y="814320"/>
            <a:ext cx="6093000" cy="64260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][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安德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汉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众传播研究方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M]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崔保国等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北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新华出版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2004:6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7"/>
          <p:cNvSpPr/>
          <p:nvPr/>
        </p:nvSpPr>
        <p:spPr>
          <a:xfrm>
            <a:off x="2095560" y="1774800"/>
            <a:ext cx="6051600" cy="64260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]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陈红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张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经营体育明星的经济学分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D]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西安：西安理工大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200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-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10"/>
          <p:cNvSpPr/>
          <p:nvPr/>
        </p:nvSpPr>
        <p:spPr>
          <a:xfrm>
            <a:off x="949320" y="879480"/>
            <a:ext cx="66528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专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11"/>
          <p:cNvSpPr/>
          <p:nvPr/>
        </p:nvSpPr>
        <p:spPr>
          <a:xfrm>
            <a:off x="985680" y="1805040"/>
            <a:ext cx="65268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学位论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12"/>
          <p:cNvSpPr/>
          <p:nvPr/>
        </p:nvSpPr>
        <p:spPr>
          <a:xfrm>
            <a:off x="2108160" y="2724120"/>
            <a:ext cx="6050160" cy="64260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]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郭英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元明文学史观散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J]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北京师范大学学报（社会科学版）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4-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13"/>
          <p:cNvSpPr/>
          <p:nvPr/>
        </p:nvSpPr>
        <p:spPr>
          <a:xfrm>
            <a:off x="996840" y="2719440"/>
            <a:ext cx="70164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期刊论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矩形 14"/>
          <p:cNvSpPr/>
          <p:nvPr/>
        </p:nvSpPr>
        <p:spPr>
          <a:xfrm>
            <a:off x="2143080" y="3753000"/>
            <a:ext cx="6075360" cy="64260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]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别林斯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论俄国中篇小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A]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伍蠡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西方文论选：下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]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海：上海译文出版社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79:8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15"/>
          <p:cNvSpPr/>
          <p:nvPr/>
        </p:nvSpPr>
        <p:spPr>
          <a:xfrm>
            <a:off x="1033560" y="3740040"/>
            <a:ext cx="73656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论文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矩形 1"/>
          <p:cNvSpPr/>
          <p:nvPr/>
        </p:nvSpPr>
        <p:spPr>
          <a:xfrm>
            <a:off x="6753600" y="2030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络文献的格式规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"/>
          <p:cNvSpPr/>
          <p:nvPr/>
        </p:nvSpPr>
        <p:spPr>
          <a:xfrm>
            <a:off x="747720" y="2079720"/>
            <a:ext cx="8088480" cy="1923480"/>
          </a:xfrm>
          <a:prstGeom prst="rect">
            <a:avLst/>
          </a:prstGeom>
          <a:noFill/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序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主要责任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电子文献题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电子文献类型标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载体类型标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电子文献的出处或可获得的地址，发表或更新日期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引用日期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1]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王明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关于中国学术期刊标准化数据库系统工程的进展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EB/OL].http: //www.cajcd.edu.cn/pub/wml.txt/980810–2.html, 1998–08–16/1998–10–0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4"/>
          <p:cNvSpPr/>
          <p:nvPr/>
        </p:nvSpPr>
        <p:spPr>
          <a:xfrm>
            <a:off x="4614840" y="84240"/>
            <a:ext cx="43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科毕业论文功能的内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2"/>
          <p:cNvSpPr/>
          <p:nvPr/>
        </p:nvSpPr>
        <p:spPr>
          <a:xfrm>
            <a:off x="398520" y="1201680"/>
            <a:ext cx="820260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本科毕业论文功能的内涵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源于教育部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004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月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日颁发的《教育部办公厅关于加强普通高等学校毕业设计（论文）工作的通知》（教高厅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[2004]14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号），其中的表述是：“毕业设计（论文）是实现培养目标的重要教学环节。毕业设计（论文）在培养大学生探求真理、强化社会意识、进行科学研究基本训练、提高综合实践能力与素质等方面，具有不可替代的作用。是教育与生产劳动和社会实践相结合的重要体现，是培养大学生的创新能力、实践能力和创业精神的重要实践环节。同时，毕业设计（论文）的质量也是衡量教学水平，学生毕业与学位资格认证的重要依据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矩形 1"/>
          <p:cNvSpPr/>
          <p:nvPr/>
        </p:nvSpPr>
        <p:spPr>
          <a:xfrm>
            <a:off x="8225280" y="142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致谢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文本框 2"/>
          <p:cNvSpPr/>
          <p:nvPr/>
        </p:nvSpPr>
        <p:spPr>
          <a:xfrm>
            <a:off x="1514520" y="1819440"/>
            <a:ext cx="64389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致谢辞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论文写作期间乃至求学生涯中给予自己帮助与支持的人表示感谢，包括老师、家长、同学、朋友等。语言优美，情感真挚，篇幅不宜太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Group 2"/>
          <p:cNvGrpSpPr/>
          <p:nvPr/>
        </p:nvGrpSpPr>
        <p:grpSpPr>
          <a:xfrm>
            <a:off x="2252520" y="2619360"/>
            <a:ext cx="4638960" cy="476280"/>
            <a:chOff x="2252520" y="2619360"/>
            <a:chExt cx="4638960" cy="476280"/>
          </a:xfrm>
        </p:grpSpPr>
        <p:grpSp>
          <p:nvGrpSpPr>
            <p:cNvPr id="467" name="Group 3"/>
            <p:cNvGrpSpPr/>
            <p:nvPr/>
          </p:nvGrpSpPr>
          <p:grpSpPr>
            <a:xfrm>
              <a:off x="2252520" y="2619360"/>
              <a:ext cx="4638960" cy="476280"/>
              <a:chOff x="2252520" y="2619360"/>
              <a:chExt cx="4638960" cy="476280"/>
            </a:xfrm>
          </p:grpSpPr>
          <p:pic>
            <p:nvPicPr>
              <p:cNvPr id="468" name="AutoShap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2252520" y="2619360"/>
                <a:ext cx="4638960" cy="47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9" name="Text Box 5"/>
              <p:cNvSpPr/>
              <p:nvPr/>
            </p:nvSpPr>
            <p:spPr>
              <a:xfrm>
                <a:off x="2337480" y="2669400"/>
                <a:ext cx="44748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6"/>
            <p:cNvGrpSpPr/>
            <p:nvPr/>
          </p:nvGrpSpPr>
          <p:grpSpPr>
            <a:xfrm>
              <a:off x="2252520" y="2643120"/>
              <a:ext cx="4638960" cy="395280"/>
              <a:chOff x="2252520" y="2643120"/>
              <a:chExt cx="4638960" cy="395280"/>
            </a:xfrm>
          </p:grpSpPr>
          <p:pic>
            <p:nvPicPr>
              <p:cNvPr id="471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252520" y="2643120"/>
                <a:ext cx="4638960" cy="3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2" name="Text Box 8"/>
              <p:cNvSpPr/>
              <p:nvPr/>
            </p:nvSpPr>
            <p:spPr>
              <a:xfrm>
                <a:off x="2330640" y="2719440"/>
                <a:ext cx="4488120" cy="23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（四）写作过程中存在的突出问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矩形 1"/>
          <p:cNvSpPr/>
          <p:nvPr/>
        </p:nvSpPr>
        <p:spPr>
          <a:xfrm>
            <a:off x="5526360" y="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写作过程中存在的突出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"/>
          <p:cNvSpPr/>
          <p:nvPr/>
        </p:nvSpPr>
        <p:spPr>
          <a:xfrm>
            <a:off x="890640" y="2094840"/>
            <a:ext cx="7707240" cy="1923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黑体"/>
                <a:ea typeface="宋体"/>
              </a:rPr>
              <a:t>概念模糊</a:t>
            </a:r>
            <a:r>
              <a:rPr b="0" lang="zh-CN" sz="2000" spc="-1" strike="noStrike">
                <a:solidFill>
                  <a:srgbClr val="003366"/>
                </a:solidFill>
                <a:latin typeface="黑体"/>
                <a:ea typeface="宋体"/>
              </a:rPr>
              <a:t>：</a:t>
            </a:r>
            <a:r>
              <a:rPr b="0" lang="zh-CN" sz="2000" spc="-1" strike="noStrike">
                <a:solidFill>
                  <a:srgbClr val="003366"/>
                </a:solidFill>
                <a:latin typeface="宋体"/>
                <a:ea typeface="宋体"/>
              </a:rPr>
              <a:t>“</a:t>
            </a:r>
            <a:r>
              <a:rPr b="0" lang="zh-CN" sz="2000" spc="-1" strike="noStrike">
                <a:solidFill>
                  <a:srgbClr val="003366"/>
                </a:solidFill>
                <a:latin typeface="黑体"/>
                <a:ea typeface="宋体"/>
              </a:rPr>
              <a:t>艺术片</a:t>
            </a:r>
            <a:r>
              <a:rPr b="0" lang="zh-CN" sz="2000" spc="-1" strike="noStrike">
                <a:solidFill>
                  <a:srgbClr val="003366"/>
                </a:solidFill>
                <a:latin typeface="宋体"/>
                <a:ea typeface="宋体"/>
              </a:rPr>
              <a:t>”</a:t>
            </a:r>
            <a:r>
              <a:rPr b="0" lang="zh-CN" sz="2000" spc="-1" strike="noStrike">
                <a:solidFill>
                  <a:srgbClr val="003366"/>
                </a:solidFill>
                <a:latin typeface="黑体"/>
                <a:ea typeface="宋体"/>
              </a:rPr>
              <a:t>与</a:t>
            </a:r>
            <a:r>
              <a:rPr b="0" lang="zh-CN" sz="2000" spc="-1" strike="noStrike">
                <a:solidFill>
                  <a:srgbClr val="003366"/>
                </a:solidFill>
                <a:latin typeface="宋体"/>
                <a:ea typeface="宋体"/>
              </a:rPr>
              <a:t>“</a:t>
            </a:r>
            <a:r>
              <a:rPr b="0" lang="zh-CN" sz="2000" spc="-1" strike="noStrike">
                <a:solidFill>
                  <a:srgbClr val="003366"/>
                </a:solidFill>
                <a:latin typeface="黑体"/>
                <a:ea typeface="宋体"/>
              </a:rPr>
              <a:t>文艺片</a:t>
            </a:r>
            <a:r>
              <a:rPr b="0" lang="zh-CN" sz="2000" spc="-1" strike="noStrike">
                <a:solidFill>
                  <a:srgbClr val="003366"/>
                </a:solidFill>
                <a:latin typeface="宋体"/>
                <a:ea typeface="宋体"/>
              </a:rPr>
              <a:t>”</a:t>
            </a:r>
            <a:r>
              <a:rPr b="0" lang="zh-CN" sz="2000" spc="-1" strike="noStrike">
                <a:solidFill>
                  <a:srgbClr val="003366"/>
                </a:solidFill>
                <a:latin typeface="黑体"/>
                <a:ea typeface="宋体"/>
              </a:rPr>
              <a:t>、</a:t>
            </a:r>
            <a:r>
              <a:rPr b="0" lang="zh-CN" sz="2000" spc="-1" strike="noStrike">
                <a:solidFill>
                  <a:srgbClr val="003366"/>
                </a:solidFill>
                <a:latin typeface="宋体"/>
                <a:ea typeface="宋体"/>
              </a:rPr>
              <a:t>“</a:t>
            </a:r>
            <a:r>
              <a:rPr b="0" lang="zh-CN" sz="2000" spc="-1" strike="noStrike">
                <a:solidFill>
                  <a:srgbClr val="003366"/>
                </a:solidFill>
                <a:latin typeface="黑体"/>
                <a:ea typeface="宋体"/>
              </a:rPr>
              <a:t>农民工</a:t>
            </a:r>
            <a:r>
              <a:rPr b="0" lang="zh-CN" sz="2000" spc="-1" strike="noStrike">
                <a:solidFill>
                  <a:srgbClr val="003366"/>
                </a:solidFill>
                <a:latin typeface="宋体"/>
                <a:ea typeface="宋体"/>
              </a:rPr>
              <a:t>”</a:t>
            </a:r>
            <a:r>
              <a:rPr b="0" lang="zh-CN" sz="2000" spc="-1" strike="noStrike">
                <a:solidFill>
                  <a:srgbClr val="003366"/>
                </a:solidFill>
                <a:latin typeface="黑体"/>
                <a:ea typeface="宋体"/>
              </a:rPr>
              <a:t>与</a:t>
            </a:r>
            <a:r>
              <a:rPr b="0" lang="zh-CN" sz="2000" spc="-1" strike="noStrike">
                <a:solidFill>
                  <a:srgbClr val="003366"/>
                </a:solidFill>
                <a:latin typeface="宋体"/>
                <a:ea typeface="宋体"/>
              </a:rPr>
              <a:t>“</a:t>
            </a:r>
            <a:r>
              <a:rPr b="0" lang="zh-CN" sz="2000" spc="-1" strike="noStrike">
                <a:solidFill>
                  <a:srgbClr val="003366"/>
                </a:solidFill>
                <a:latin typeface="黑体"/>
                <a:ea typeface="宋体"/>
              </a:rPr>
              <a:t>农民</a:t>
            </a:r>
            <a:r>
              <a:rPr b="0" lang="zh-CN" sz="2000" spc="-1" strike="noStrike">
                <a:solidFill>
                  <a:srgbClr val="003366"/>
                </a:solidFill>
                <a:latin typeface="宋体"/>
                <a:ea typeface="宋体"/>
              </a:rPr>
              <a:t>”</a:t>
            </a:r>
            <a:r>
              <a:rPr b="0" lang="zh-CN" sz="2000" spc="-1" strike="noStrike">
                <a:solidFill>
                  <a:srgbClr val="003366"/>
                </a:solidFill>
                <a:latin typeface="黑体"/>
                <a:ea typeface="宋体"/>
              </a:rPr>
              <a:t>、</a:t>
            </a:r>
            <a:r>
              <a:rPr b="0" lang="zh-CN" sz="2000" spc="-1" strike="noStrike">
                <a:solidFill>
                  <a:srgbClr val="003366"/>
                </a:solidFill>
                <a:latin typeface="宋体"/>
                <a:ea typeface="宋体"/>
              </a:rPr>
              <a:t>“</a:t>
            </a:r>
            <a:r>
              <a:rPr b="0" lang="zh-CN" sz="2000" spc="-1" strike="noStrike">
                <a:solidFill>
                  <a:srgbClr val="003366"/>
                </a:solidFill>
                <a:latin typeface="黑体"/>
                <a:ea typeface="宋体"/>
              </a:rPr>
              <a:t>公众</a:t>
            </a:r>
            <a:r>
              <a:rPr b="0" lang="zh-CN" sz="2000" spc="-1" strike="noStrike">
                <a:solidFill>
                  <a:srgbClr val="003366"/>
                </a:solidFill>
                <a:latin typeface="宋体"/>
                <a:ea typeface="宋体"/>
              </a:rPr>
              <a:t>”</a:t>
            </a:r>
            <a:r>
              <a:rPr b="0" lang="zh-CN" sz="2000" spc="-1" strike="noStrike">
                <a:solidFill>
                  <a:srgbClr val="003366"/>
                </a:solidFill>
                <a:latin typeface="黑体"/>
                <a:ea typeface="宋体"/>
              </a:rPr>
              <a:t>与</a:t>
            </a:r>
            <a:r>
              <a:rPr b="0" lang="zh-CN" sz="2000" spc="-1" strike="noStrike">
                <a:solidFill>
                  <a:srgbClr val="003366"/>
                </a:solidFill>
                <a:latin typeface="宋体"/>
                <a:ea typeface="宋体"/>
              </a:rPr>
              <a:t>“</a:t>
            </a:r>
            <a:r>
              <a:rPr b="0" lang="zh-CN" sz="2000" spc="-1" strike="noStrike">
                <a:solidFill>
                  <a:srgbClr val="003366"/>
                </a:solidFill>
                <a:latin typeface="黑体"/>
                <a:ea typeface="宋体"/>
              </a:rPr>
              <a:t>大众</a:t>
            </a:r>
            <a:r>
              <a:rPr b="0" lang="zh-CN" sz="2000" spc="-1" strike="noStrike">
                <a:solidFill>
                  <a:srgbClr val="003366"/>
                </a:solidFill>
                <a:latin typeface="宋体"/>
                <a:ea typeface="宋体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黑体"/>
                <a:ea typeface="宋体"/>
              </a:rPr>
              <a:t>内容脱节：</a:t>
            </a:r>
            <a:r>
              <a:rPr b="0" lang="zh-CN" sz="2000" spc="-1" strike="noStrike">
                <a:solidFill>
                  <a:srgbClr val="003366"/>
                </a:solidFill>
                <a:latin typeface="黑体"/>
                <a:ea typeface="宋体"/>
              </a:rPr>
              <a:t>材料（理论）与观点脱节，观点不能统帅材料，材料不能证明观点（</a:t>
            </a:r>
            <a:r>
              <a:rPr b="0" lang="zh-CN" sz="2000" spc="-1" strike="noStrike">
                <a:solidFill>
                  <a:srgbClr val="003366"/>
                </a:solidFill>
                <a:latin typeface="宋体"/>
                <a:ea typeface="宋体"/>
              </a:rPr>
              <a:t>“</a:t>
            </a:r>
            <a:r>
              <a:rPr b="0" lang="zh-CN" sz="2000" spc="-1" strike="noStrike">
                <a:solidFill>
                  <a:srgbClr val="003366"/>
                </a:solidFill>
                <a:latin typeface="黑体"/>
                <a:ea typeface="宋体"/>
              </a:rPr>
              <a:t>两张皮</a:t>
            </a:r>
            <a:r>
              <a:rPr b="0" lang="zh-CN" sz="2000" spc="-1" strike="noStrike">
                <a:solidFill>
                  <a:srgbClr val="003366"/>
                </a:solidFill>
                <a:latin typeface="宋体"/>
                <a:ea typeface="宋体"/>
              </a:rPr>
              <a:t>”</a:t>
            </a:r>
            <a:r>
              <a:rPr b="0" lang="zh-CN" sz="2000" spc="-1" strike="noStrike">
                <a:solidFill>
                  <a:srgbClr val="003366"/>
                </a:solidFill>
                <a:latin typeface="黑体"/>
                <a:ea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黑体"/>
                <a:ea typeface="宋体"/>
              </a:rPr>
              <a:t>语言问题：</a:t>
            </a:r>
            <a:r>
              <a:rPr b="0" lang="zh-CN" sz="2000" spc="-1" strike="noStrike">
                <a:solidFill>
                  <a:srgbClr val="003366"/>
                </a:solidFill>
                <a:latin typeface="黑体"/>
                <a:ea typeface="宋体"/>
              </a:rPr>
              <a:t>错别字、标点符号错误过多；口语化、情绪化语言；语句不通顺，长句过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黑体"/>
                <a:ea typeface="宋体"/>
              </a:rPr>
              <a:t>格式问题：</a:t>
            </a:r>
            <a:r>
              <a:rPr b="0" lang="zh-CN" sz="2000" spc="-1" strike="noStrike">
                <a:solidFill>
                  <a:srgbClr val="003366"/>
                </a:solidFill>
                <a:latin typeface="黑体"/>
                <a:ea typeface="宋体"/>
              </a:rPr>
              <a:t>字体，行间距，段首缩进，注释与参考文献，目录、摘要、关键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黑体"/>
                <a:ea typeface="宋体"/>
              </a:rPr>
              <a:t>英文摘要：</a:t>
            </a:r>
            <a:r>
              <a:rPr b="0" lang="zh-CN" sz="2000" spc="-1" strike="noStrike">
                <a:solidFill>
                  <a:srgbClr val="003366"/>
                </a:solidFill>
                <a:latin typeface="黑体"/>
                <a:ea typeface="宋体"/>
              </a:rPr>
              <a:t>很多是电脑翻译的</a:t>
            </a:r>
            <a:r>
              <a:rPr b="0" lang="zh-CN" sz="2000" spc="-1" strike="noStrike">
                <a:solidFill>
                  <a:srgbClr val="003366"/>
                </a:solidFill>
                <a:latin typeface="宋体"/>
                <a:ea typeface="宋体"/>
              </a:rPr>
              <a:t>“</a:t>
            </a:r>
            <a:r>
              <a:rPr b="0" lang="zh-CN" sz="2000" spc="-1" strike="noStrike">
                <a:solidFill>
                  <a:srgbClr val="003366"/>
                </a:solidFill>
                <a:latin typeface="黑体"/>
                <a:ea typeface="宋体"/>
              </a:rPr>
              <a:t>中式英语</a:t>
            </a:r>
            <a:r>
              <a:rPr b="0" lang="zh-CN" sz="2000" spc="-1" strike="noStrike">
                <a:solidFill>
                  <a:srgbClr val="003366"/>
                </a:solidFill>
                <a:latin typeface="宋体"/>
                <a:ea typeface="宋体"/>
              </a:rPr>
              <a:t>”</a:t>
            </a:r>
            <a:r>
              <a:rPr b="0" lang="zh-CN" sz="2000" spc="-1" strike="noStrike">
                <a:solidFill>
                  <a:srgbClr val="003366"/>
                </a:solidFill>
                <a:latin typeface="黑体"/>
                <a:ea typeface="宋体"/>
              </a:rPr>
              <a:t>，不符合基本的英文语法要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黑体"/>
                <a:ea typeface="宋体"/>
              </a:rPr>
              <a:t>缺乏创新：</a:t>
            </a:r>
            <a:r>
              <a:rPr b="0" lang="zh-CN" sz="2000" spc="-1" strike="noStrike">
                <a:solidFill>
                  <a:srgbClr val="003366"/>
                </a:solidFill>
                <a:latin typeface="黑体"/>
                <a:ea typeface="宋体"/>
              </a:rPr>
              <a:t>论文写成</a:t>
            </a:r>
            <a:r>
              <a:rPr b="0" lang="zh-CN" sz="2000" spc="-1" strike="noStrike">
                <a:solidFill>
                  <a:srgbClr val="003366"/>
                </a:solidFill>
                <a:latin typeface="宋体"/>
                <a:ea typeface="宋体"/>
              </a:rPr>
              <a:t>“</a:t>
            </a:r>
            <a:r>
              <a:rPr b="0" lang="zh-CN" sz="2000" spc="-1" strike="noStrike">
                <a:solidFill>
                  <a:srgbClr val="003366"/>
                </a:solidFill>
                <a:latin typeface="黑体"/>
                <a:ea typeface="宋体"/>
              </a:rPr>
              <a:t>教科书式</a:t>
            </a:r>
            <a:r>
              <a:rPr b="0" lang="zh-CN" sz="2000" spc="-1" strike="noStrike">
                <a:solidFill>
                  <a:srgbClr val="003366"/>
                </a:solidFill>
                <a:latin typeface="宋体"/>
                <a:ea typeface="宋体"/>
              </a:rPr>
              <a:t>”</a:t>
            </a:r>
            <a:r>
              <a:rPr b="0" lang="zh-CN" sz="2000" spc="-1" strike="noStrike">
                <a:solidFill>
                  <a:srgbClr val="003366"/>
                </a:solidFill>
                <a:latin typeface="黑体"/>
                <a:ea typeface="宋体"/>
              </a:rPr>
              <a:t>、</a:t>
            </a:r>
            <a:r>
              <a:rPr b="0" lang="zh-CN" sz="2000" spc="-1" strike="noStrike">
                <a:solidFill>
                  <a:srgbClr val="003366"/>
                </a:solidFill>
                <a:latin typeface="宋体"/>
                <a:ea typeface="宋体"/>
              </a:rPr>
              <a:t>“</a:t>
            </a:r>
            <a:r>
              <a:rPr b="0" lang="zh-CN" sz="2000" spc="-1" strike="noStrike">
                <a:solidFill>
                  <a:srgbClr val="003366"/>
                </a:solidFill>
                <a:latin typeface="黑体"/>
                <a:ea typeface="宋体"/>
              </a:rPr>
              <a:t>读后感式</a:t>
            </a:r>
            <a:r>
              <a:rPr b="0" lang="zh-CN" sz="2000" spc="-1" strike="noStrike">
                <a:solidFill>
                  <a:srgbClr val="003366"/>
                </a:solidFill>
                <a:latin typeface="宋体"/>
                <a:ea typeface="宋体"/>
              </a:rPr>
              <a:t>”，见不到任何属于自己的观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Group 2"/>
          <p:cNvGrpSpPr/>
          <p:nvPr/>
        </p:nvGrpSpPr>
        <p:grpSpPr>
          <a:xfrm>
            <a:off x="2252520" y="2619360"/>
            <a:ext cx="4638960" cy="476280"/>
            <a:chOff x="2252520" y="2619360"/>
            <a:chExt cx="4638960" cy="476280"/>
          </a:xfrm>
        </p:grpSpPr>
        <p:grpSp>
          <p:nvGrpSpPr>
            <p:cNvPr id="476" name="Group 3"/>
            <p:cNvGrpSpPr/>
            <p:nvPr/>
          </p:nvGrpSpPr>
          <p:grpSpPr>
            <a:xfrm>
              <a:off x="2252520" y="2619360"/>
              <a:ext cx="4638960" cy="476280"/>
              <a:chOff x="2252520" y="2619360"/>
              <a:chExt cx="4638960" cy="476280"/>
            </a:xfrm>
          </p:grpSpPr>
          <p:pic>
            <p:nvPicPr>
              <p:cNvPr id="477" name="AutoShap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2252520" y="2619360"/>
                <a:ext cx="4638960" cy="47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8" name="Text Box 5"/>
              <p:cNvSpPr/>
              <p:nvPr/>
            </p:nvSpPr>
            <p:spPr>
              <a:xfrm>
                <a:off x="2337480" y="2669400"/>
                <a:ext cx="44748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6"/>
            <p:cNvGrpSpPr/>
            <p:nvPr/>
          </p:nvGrpSpPr>
          <p:grpSpPr>
            <a:xfrm>
              <a:off x="2252520" y="2643120"/>
              <a:ext cx="4638960" cy="395280"/>
              <a:chOff x="2252520" y="2643120"/>
              <a:chExt cx="4638960" cy="395280"/>
            </a:xfrm>
          </p:grpSpPr>
          <p:pic>
            <p:nvPicPr>
              <p:cNvPr id="480" name="AutoShap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252520" y="2643120"/>
                <a:ext cx="4638960" cy="3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 Box 8"/>
              <p:cNvSpPr/>
              <p:nvPr/>
            </p:nvSpPr>
            <p:spPr>
              <a:xfrm>
                <a:off x="2324160" y="2718720"/>
                <a:ext cx="4488120" cy="23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（五）查重报告要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矩形 1"/>
          <p:cNvSpPr/>
          <p:nvPr/>
        </p:nvSpPr>
        <p:spPr>
          <a:xfrm>
            <a:off x="5526360" y="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写作过程中存在的突出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1"/>
          <p:cNvSpPr/>
          <p:nvPr/>
        </p:nvSpPr>
        <p:spPr>
          <a:xfrm>
            <a:off x="54000" y="1730520"/>
            <a:ext cx="8543880" cy="2654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论文查重的二点要求：一是学生按照学院提供的二个官网网址查重，查重率要小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％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并将查重报告全文打印出来；二是学生在纸质查重报告上注明自己的专业、班级、姓名、学号，由指导老师签字确认后交给张玉枝老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学院提供的二个论文查重网址是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.PaperPass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论文检测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www.paperpass.com  1.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元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/1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维普论文检测系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http://vpcs.cqvip.com/personal/paper/filetext.aspx  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元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/100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文本框 1"/>
          <p:cNvSpPr/>
          <p:nvPr/>
        </p:nvSpPr>
        <p:spPr>
          <a:xfrm>
            <a:off x="1031760" y="1582560"/>
            <a:ext cx="67485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三、本科毕业设计的形式与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文本框 2"/>
          <p:cNvSpPr/>
          <p:nvPr/>
        </p:nvSpPr>
        <p:spPr>
          <a:xfrm>
            <a:off x="5979960" y="1382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要讲授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Box 1"/>
          <p:cNvSpPr/>
          <p:nvPr/>
        </p:nvSpPr>
        <p:spPr>
          <a:xfrm>
            <a:off x="2249640" y="0"/>
            <a:ext cx="68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广播电视编导专业试点推行毕业设计的相关安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4"/>
          <p:cNvSpPr/>
          <p:nvPr/>
        </p:nvSpPr>
        <p:spPr>
          <a:xfrm>
            <a:off x="746280" y="830160"/>
            <a:ext cx="354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宋体"/>
                <a:ea typeface="宋体"/>
              </a:rPr>
              <a:t>毕业设计的主要形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3366"/>
                </a:solidFill>
                <a:latin typeface="宋体"/>
                <a:ea typeface="宋体"/>
              </a:rPr>
              <a:t>、系列摄影作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宋体"/>
              </a:rPr>
              <a:t>B</a:t>
            </a:r>
            <a:r>
              <a:rPr b="0" lang="zh-CN" sz="2400" spc="-1" strike="noStrike">
                <a:solidFill>
                  <a:srgbClr val="003366"/>
                </a:solidFill>
                <a:latin typeface="宋体"/>
                <a:ea typeface="宋体"/>
              </a:rPr>
              <a:t>、影视短片（微电影</a:t>
            </a:r>
            <a:r>
              <a:rPr b="0" lang="en-US" sz="2400" spc="-1" strike="noStrike">
                <a:solidFill>
                  <a:srgbClr val="003366"/>
                </a:solidFill>
                <a:latin typeface="宋体"/>
              </a:rPr>
              <a:t>/DV</a:t>
            </a:r>
            <a:r>
              <a:rPr b="0" lang="zh-CN" sz="2400" spc="-1" strike="noStrike">
                <a:solidFill>
                  <a:srgbClr val="003366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3366"/>
                </a:solidFill>
                <a:latin typeface="宋体"/>
                <a:ea typeface="宋体"/>
              </a:rPr>
              <a:t>、新媒体广告创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宋体"/>
              </a:rPr>
              <a:t>D</a:t>
            </a:r>
            <a:r>
              <a:rPr b="0" lang="zh-CN" sz="2400" spc="-1" strike="noStrike">
                <a:solidFill>
                  <a:srgbClr val="003366"/>
                </a:solidFill>
                <a:latin typeface="宋体"/>
                <a:ea typeface="宋体"/>
              </a:rPr>
              <a:t>、电视节目策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宋体"/>
              </a:rPr>
              <a:t>E</a:t>
            </a:r>
            <a:r>
              <a:rPr b="0" lang="zh-CN" sz="2400" spc="-1" strike="noStrike">
                <a:solidFill>
                  <a:srgbClr val="003366"/>
                </a:solidFill>
                <a:latin typeface="宋体"/>
                <a:ea typeface="宋体"/>
              </a:rPr>
              <a:t>、大型活动策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Box 1"/>
          <p:cNvSpPr/>
          <p:nvPr/>
        </p:nvSpPr>
        <p:spPr>
          <a:xfrm>
            <a:off x="457200" y="830160"/>
            <a:ext cx="81327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宋体"/>
                <a:ea typeface="宋体"/>
              </a:rPr>
              <a:t>毕业设计的基本要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宋体"/>
                <a:ea typeface="宋体"/>
              </a:rPr>
              <a:t>   </a:t>
            </a:r>
            <a:r>
              <a:rPr b="0" lang="zh-CN" sz="2400" spc="-1" strike="noStrike">
                <a:solidFill>
                  <a:srgbClr val="003366"/>
                </a:solidFill>
                <a:latin typeface="宋体"/>
                <a:ea typeface="宋体"/>
              </a:rPr>
              <a:t>（一）</a:t>
            </a:r>
            <a:r>
              <a:rPr b="0" lang="zh-CN" sz="2000" spc="-1" strike="noStrike">
                <a:solidFill>
                  <a:srgbClr val="003366"/>
                </a:solidFill>
                <a:latin typeface="宋体"/>
                <a:ea typeface="宋体"/>
              </a:rPr>
              <a:t>以转型发展为目标，在试点专业广播电视编导</a:t>
            </a:r>
            <a:r>
              <a:rPr b="0" lang="en-US" sz="2000" spc="-1" strike="noStrike">
                <a:solidFill>
                  <a:srgbClr val="003366"/>
                </a:solidFill>
                <a:latin typeface="宋体"/>
              </a:rPr>
              <a:t>2016</a:t>
            </a:r>
            <a:r>
              <a:rPr b="0" lang="zh-CN" sz="2000" spc="-1" strike="noStrike">
                <a:solidFill>
                  <a:srgbClr val="003366"/>
                </a:solidFill>
                <a:latin typeface="宋体"/>
                <a:ea typeface="宋体"/>
              </a:rPr>
              <a:t>届毕业生中推行毕业设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宋体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3366"/>
                </a:solidFill>
                <a:latin typeface="宋体"/>
                <a:ea typeface="宋体"/>
              </a:rPr>
              <a:t>（二）个人和团队形式均可，团队不超过</a:t>
            </a:r>
            <a:r>
              <a:rPr b="0" lang="en-US" sz="2000" spc="-1" strike="noStrike">
                <a:solidFill>
                  <a:srgbClr val="003366"/>
                </a:solidFill>
                <a:latin typeface="宋体"/>
              </a:rPr>
              <a:t>5</a:t>
            </a:r>
            <a:r>
              <a:rPr b="0" lang="zh-CN" sz="2000" spc="-1" strike="noStrike">
                <a:solidFill>
                  <a:srgbClr val="003366"/>
                </a:solidFill>
                <a:latin typeface="宋体"/>
                <a:ea typeface="宋体"/>
              </a:rPr>
              <a:t>人，且个人在其中有明确的任务分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宋体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3366"/>
                </a:solidFill>
                <a:latin typeface="宋体"/>
                <a:ea typeface="宋体"/>
              </a:rPr>
              <a:t>（三）采取申报审批制，由个人提出申请，学院审批；团队项目中每名成员都必须单独提出申请，团队集中报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宋体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3366"/>
                </a:solidFill>
                <a:latin typeface="宋体"/>
                <a:ea typeface="宋体"/>
              </a:rPr>
              <a:t>（四）鼓励结合毕业实习进行毕业设计，优先考虑鄂东本土风格的毕业设计选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Box 1"/>
          <p:cNvSpPr/>
          <p:nvPr/>
        </p:nvSpPr>
        <p:spPr>
          <a:xfrm>
            <a:off x="528480" y="770040"/>
            <a:ext cx="817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宋体"/>
                <a:ea typeface="宋体"/>
              </a:rPr>
              <a:t>毕业设计的进度</a:t>
            </a:r>
            <a:r>
              <a:rPr b="1" lang="en-US" sz="2400" spc="-1" strike="noStrike">
                <a:solidFill>
                  <a:srgbClr val="003366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宋体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3366"/>
                </a:solidFill>
                <a:latin typeface="宋体"/>
                <a:ea typeface="宋体"/>
              </a:rPr>
              <a:t>毕业设计与毕业论文的实施进度基本一致。毕业生按要求提交选题申请并获得通过以后，必须于</a:t>
            </a:r>
            <a:r>
              <a:rPr b="0" lang="en-US" sz="2400" spc="-1" strike="noStrike">
                <a:solidFill>
                  <a:srgbClr val="003366"/>
                </a:solidFill>
                <a:latin typeface="宋体"/>
              </a:rPr>
              <a:t>2017</a:t>
            </a:r>
            <a:r>
              <a:rPr b="0" lang="zh-CN" sz="2400" spc="-1" strike="noStrike">
                <a:solidFill>
                  <a:srgbClr val="003366"/>
                </a:solidFill>
                <a:latin typeface="宋体"/>
                <a:ea typeface="宋体"/>
              </a:rPr>
              <a:t>年</a:t>
            </a:r>
            <a:r>
              <a:rPr b="0" lang="en-US" sz="2400" spc="-1" strike="noStrike">
                <a:solidFill>
                  <a:srgbClr val="003366"/>
                </a:solidFill>
                <a:latin typeface="宋体"/>
              </a:rPr>
              <a:t>11</a:t>
            </a:r>
            <a:r>
              <a:rPr b="0" lang="zh-CN" sz="2400" spc="-1" strike="noStrike">
                <a:solidFill>
                  <a:srgbClr val="003366"/>
                </a:solidFill>
                <a:latin typeface="宋体"/>
                <a:ea typeface="宋体"/>
              </a:rPr>
              <a:t>月底之前完成开题报告与文献综述，</a:t>
            </a:r>
            <a:r>
              <a:rPr b="0" lang="en-US" sz="2400" spc="-1" strike="noStrike">
                <a:solidFill>
                  <a:srgbClr val="003366"/>
                </a:solidFill>
                <a:latin typeface="宋体"/>
              </a:rPr>
              <a:t>2018</a:t>
            </a:r>
            <a:r>
              <a:rPr b="0" lang="zh-CN" sz="2400" spc="-1" strike="noStrike">
                <a:solidFill>
                  <a:srgbClr val="003366"/>
                </a:solidFill>
                <a:latin typeface="宋体"/>
                <a:ea typeface="宋体"/>
              </a:rPr>
              <a:t>年</a:t>
            </a:r>
            <a:r>
              <a:rPr b="0" lang="en-US" sz="2400" spc="-1" strike="noStrike">
                <a:solidFill>
                  <a:srgbClr val="003366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3366"/>
                </a:solidFill>
                <a:latin typeface="宋体"/>
                <a:ea typeface="宋体"/>
              </a:rPr>
              <a:t>月份进行中期检查，</a:t>
            </a:r>
            <a:r>
              <a:rPr b="0" lang="en-US" sz="2400" spc="-1" strike="noStrike">
                <a:solidFill>
                  <a:srgbClr val="003366"/>
                </a:solidFill>
                <a:latin typeface="宋体"/>
              </a:rPr>
              <a:t>2018</a:t>
            </a:r>
            <a:r>
              <a:rPr b="0" lang="zh-CN" sz="2400" spc="-1" strike="noStrike">
                <a:solidFill>
                  <a:srgbClr val="003366"/>
                </a:solidFill>
                <a:latin typeface="宋体"/>
                <a:ea typeface="宋体"/>
              </a:rPr>
              <a:t>年</a:t>
            </a:r>
            <a:r>
              <a:rPr b="0" lang="en-US" sz="2400" spc="-1" strike="noStrike">
                <a:solidFill>
                  <a:srgbClr val="003366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3366"/>
                </a:solidFill>
                <a:latin typeface="宋体"/>
                <a:ea typeface="宋体"/>
              </a:rPr>
              <a:t>月底之前完成设计作品及相关答辩材料，</a:t>
            </a:r>
            <a:r>
              <a:rPr b="0" lang="en-US" sz="2400" spc="-1" strike="noStrike">
                <a:solidFill>
                  <a:srgbClr val="003366"/>
                </a:solidFill>
                <a:latin typeface="宋体"/>
              </a:rPr>
              <a:t>2018</a:t>
            </a:r>
            <a:r>
              <a:rPr b="0" lang="zh-CN" sz="2400" spc="-1" strike="noStrike">
                <a:solidFill>
                  <a:srgbClr val="003366"/>
                </a:solidFill>
                <a:latin typeface="宋体"/>
                <a:ea typeface="宋体"/>
              </a:rPr>
              <a:t>年</a:t>
            </a:r>
            <a:r>
              <a:rPr b="0" lang="en-US" sz="2400" spc="-1" strike="noStrike">
                <a:solidFill>
                  <a:srgbClr val="003366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3366"/>
                </a:solidFill>
                <a:latin typeface="宋体"/>
                <a:ea typeface="宋体"/>
              </a:rPr>
              <a:t>月中旬进行毕业设计答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Box 1"/>
          <p:cNvSpPr/>
          <p:nvPr/>
        </p:nvSpPr>
        <p:spPr>
          <a:xfrm>
            <a:off x="457200" y="1011240"/>
            <a:ext cx="8145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宋体"/>
                <a:ea typeface="宋体"/>
              </a:rPr>
              <a:t>毕业设计的评价</a:t>
            </a:r>
            <a:r>
              <a:rPr b="1" lang="en-US" sz="2000" spc="-1" strike="noStrike">
                <a:solidFill>
                  <a:srgbClr val="003366"/>
                </a:solidFill>
                <a:latin typeface="宋体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宋体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宋体"/>
                <a:ea typeface="宋体"/>
              </a:rPr>
              <a:t>、答辩材料：除设计作品外，毕业生需要完成正文</a:t>
            </a:r>
            <a:r>
              <a:rPr b="0" lang="en-US" sz="2000" spc="-1" strike="noStrike">
                <a:solidFill>
                  <a:srgbClr val="003366"/>
                </a:solidFill>
                <a:latin typeface="宋体"/>
              </a:rPr>
              <a:t>12000</a:t>
            </a:r>
            <a:r>
              <a:rPr b="0" lang="zh-CN" sz="2000" spc="-1" strike="noStrike">
                <a:solidFill>
                  <a:srgbClr val="003366"/>
                </a:solidFill>
                <a:latin typeface="宋体"/>
                <a:ea typeface="宋体"/>
              </a:rPr>
              <a:t>字以上的毕业设计说明书（系统阐述毕业设计的基本思路、实施进展、技术手段、成果形式以及现实意义），制作</a:t>
            </a:r>
            <a:r>
              <a:rPr b="0" lang="en-US" sz="2000" spc="-1" strike="noStrike">
                <a:solidFill>
                  <a:srgbClr val="003366"/>
                </a:solidFill>
                <a:latin typeface="宋体"/>
              </a:rPr>
              <a:t>8-10</a:t>
            </a:r>
            <a:r>
              <a:rPr b="0" lang="zh-CN" sz="2000" spc="-1" strike="noStrike">
                <a:solidFill>
                  <a:srgbClr val="003366"/>
                </a:solidFill>
                <a:latin typeface="宋体"/>
                <a:ea typeface="宋体"/>
              </a:rPr>
              <a:t>分钟的</a:t>
            </a:r>
            <a:r>
              <a:rPr b="0" lang="en-US" sz="2000" spc="-1" strike="noStrike">
                <a:solidFill>
                  <a:srgbClr val="003366"/>
                </a:solidFill>
                <a:latin typeface="宋体"/>
              </a:rPr>
              <a:t>PPT</a:t>
            </a:r>
            <a:r>
              <a:rPr b="0" lang="zh-CN" sz="2000" spc="-1" strike="noStrike">
                <a:solidFill>
                  <a:srgbClr val="003366"/>
                </a:solidFill>
                <a:latin typeface="宋体"/>
                <a:ea typeface="宋体"/>
              </a:rPr>
              <a:t>文档，与设计作品一起于答辩前一周呈交答辩委员会审阅并评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宋体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3366"/>
                </a:solidFill>
                <a:latin typeface="宋体"/>
                <a:ea typeface="宋体"/>
              </a:rPr>
              <a:t>、答辩方式：学院将比照毕业论文答辩的模式，组织毕业设计评价与答辩委员会，对作品质量进行评价，专业教师现场提问，毕业生作答，根据各个环节的具体表现作出综合评价，确定最终答辩成绩。或者参加答辩小组进行统一答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4"/>
          <p:cNvSpPr/>
          <p:nvPr/>
        </p:nvSpPr>
        <p:spPr>
          <a:xfrm>
            <a:off x="3755880" y="84240"/>
            <a:ext cx="523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科毕业论文是主要实践教学环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2"/>
          <p:cNvSpPr/>
          <p:nvPr/>
        </p:nvSpPr>
        <p:spPr>
          <a:xfrm>
            <a:off x="398520" y="1201680"/>
            <a:ext cx="820260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主要实践性教学环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毕业实习、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毕业设计（论文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综合性设计性实验周、专业认知综合课程实践月、实践与创新学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毕业设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论文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)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：   必修内容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96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学时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个学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2" descr="E:\amy项目\模板\茶\1\1.png"/>
          <p:cNvPicPr/>
          <p:nvPr/>
        </p:nvPicPr>
        <p:blipFill>
          <a:blip r:embed="rId1"/>
          <a:srcRect l="0" t="0" r="0" b="13921"/>
          <a:stretch/>
        </p:blipFill>
        <p:spPr>
          <a:xfrm>
            <a:off x="-511200" y="-696960"/>
            <a:ext cx="11885760" cy="7427880"/>
          </a:xfrm>
          <a:prstGeom prst="rect">
            <a:avLst/>
          </a:prstGeom>
          <a:ln w="0">
            <a:noFill/>
          </a:ln>
        </p:spPr>
      </p:pic>
      <p:pic>
        <p:nvPicPr>
          <p:cNvPr id="492" name="图片 11" descr="9.png"/>
          <p:cNvPicPr/>
          <p:nvPr/>
        </p:nvPicPr>
        <p:blipFill>
          <a:blip r:embed="rId2"/>
          <a:stretch/>
        </p:blipFill>
        <p:spPr>
          <a:xfrm>
            <a:off x="6975360" y="-1096920"/>
            <a:ext cx="223920" cy="1666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6" descr="E:\amy项目\模板\茶\1\4.png"/>
          <p:cNvPicPr/>
          <p:nvPr/>
        </p:nvPicPr>
        <p:blipFill>
          <a:blip r:embed="rId3"/>
          <a:stretch/>
        </p:blipFill>
        <p:spPr>
          <a:xfrm>
            <a:off x="6672240" y="214200"/>
            <a:ext cx="2185920" cy="2130480"/>
          </a:xfrm>
          <a:prstGeom prst="rect">
            <a:avLst/>
          </a:prstGeom>
          <a:ln w="0">
            <a:noFill/>
          </a:ln>
        </p:spPr>
      </p:pic>
      <p:sp>
        <p:nvSpPr>
          <p:cNvPr id="494" name="TextBox 6"/>
          <p:cNvSpPr/>
          <p:nvPr/>
        </p:nvSpPr>
        <p:spPr>
          <a:xfrm>
            <a:off x="2840040" y="2270160"/>
            <a:ext cx="458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谢谢！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文本框 1"/>
          <p:cNvSpPr/>
          <p:nvPr/>
        </p:nvSpPr>
        <p:spPr>
          <a:xfrm>
            <a:off x="5133960" y="4608360"/>
            <a:ext cx="327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017.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1"/>
          <p:cNvSpPr/>
          <p:nvPr/>
        </p:nvSpPr>
        <p:spPr>
          <a:xfrm>
            <a:off x="5921280" y="174600"/>
            <a:ext cx="322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什么是毕业论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2"/>
          <p:cNvSpPr/>
          <p:nvPr/>
        </p:nvSpPr>
        <p:spPr>
          <a:xfrm>
            <a:off x="801720" y="1450800"/>
            <a:ext cx="727848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毕业论文：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高等院校的应届毕业生为了完成学业，综合运用所学基础理论、 专业知识和技能，就某一领域的某一课题的研究（或设计）成果加以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  <a:ea typeface="华文新魏"/>
              </a:rPr>
              <a:t>系统表述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，具有一定学术价值或者应用价值的</a:t>
            </a:r>
            <a:r>
              <a:rPr b="1" lang="zh-CN" sz="2400" spc="-1" strike="noStrike">
                <a:solidFill>
                  <a:srgbClr val="0070c0"/>
                </a:solidFill>
                <a:latin typeface="华文新魏"/>
                <a:ea typeface="华文新魏"/>
              </a:rPr>
              <a:t>议论文体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Box 4"/>
          <p:cNvSpPr/>
          <p:nvPr/>
        </p:nvSpPr>
        <p:spPr>
          <a:xfrm>
            <a:off x="4383000" y="8424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什么要撰写毕业论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10"/>
          <p:cNvSpPr/>
          <p:nvPr/>
        </p:nvSpPr>
        <p:spPr>
          <a:xfrm>
            <a:off x="784080" y="1916280"/>
            <a:ext cx="806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检验学生的专业水平，考察其知识的系统性、全面性与深刻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11"/>
          <p:cNvSpPr/>
          <p:nvPr/>
        </p:nvSpPr>
        <p:spPr>
          <a:xfrm>
            <a:off x="770040" y="2960640"/>
            <a:ext cx="799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培养学生的理论素养，促使其运用所学知识分析问题与解决问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12"/>
          <p:cNvSpPr/>
          <p:nvPr/>
        </p:nvSpPr>
        <p:spPr>
          <a:xfrm>
            <a:off x="855720" y="3919680"/>
            <a:ext cx="767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锻炼学生的思维能力，培育其质疑、假说与论证的基本素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矩形 4"/>
          <p:cNvSpPr/>
          <p:nvPr/>
        </p:nvSpPr>
        <p:spPr>
          <a:xfrm>
            <a:off x="6617520" y="17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篇合格毕业论文的几点要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5"/>
          <p:cNvSpPr/>
          <p:nvPr/>
        </p:nvSpPr>
        <p:spPr>
          <a:xfrm>
            <a:off x="1146240" y="1355760"/>
            <a:ext cx="724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选题恰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针对学科领域或者社会实践中的突出问题，有一定的理论价值和现实价值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材料充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对前人研究成果有完整的了解，对发展现状有准确的把握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论证合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在充分逻辑推理中得出结论，所提出的观点能够站得住脚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有所创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提出了新的观点、采取了新的视角、运用了新的研究方法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文本框 1"/>
          <p:cNvSpPr/>
          <p:nvPr/>
        </p:nvSpPr>
        <p:spPr>
          <a:xfrm>
            <a:off x="1031760" y="1593720"/>
            <a:ext cx="6748560" cy="17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本科毕业论文的写作规范与基本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2"/>
          <p:cNvSpPr/>
          <p:nvPr/>
        </p:nvSpPr>
        <p:spPr>
          <a:xfrm>
            <a:off x="5979960" y="1382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要讲授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07:35:43Z</dcterms:created>
  <dc:creator>番茄花园</dc:creator>
  <dc:description/>
  <dc:language>en-US</dc:language>
  <cp:lastModifiedBy>Administrator</cp:lastModifiedBy>
  <dcterms:modified xsi:type="dcterms:W3CDTF">2017-10-17T01:32:40Z</dcterms:modified>
  <cp:revision>2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4</vt:lpwstr>
  </property>
</Properties>
</file>